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1E9-DA89-4267-BD2A-0DEA5893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376-B42B-41D9-B547-E067C615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F5E-B0E2-4371-8B5F-3A85B92E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F00-94EA-49B9-990B-876F4041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F613-19CE-4E43-8CB2-77C46156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C04C-E936-450B-8A41-11CB1456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1ED3-4B7F-49CD-96E0-8CA64145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75DB-8753-460F-BB8D-FAF21ACE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848B-A212-468D-BF35-D380322C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DC59-35DC-4ED0-A2B1-072C3B8B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64AE-80C0-49A4-8998-72003FFD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37C-EB06-4BF4-ACEF-E413495D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D137-00B8-4FF7-AE71-DD89E8C6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0316-6B03-4C9F-AB91-F99B94BE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360A-4682-496A-B933-71916365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ECDA-1204-4CB6-BF2B-1EF16547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E541-6B48-4221-AE2F-7926874A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4D0-1C39-4531-AD80-D46B0E65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910-09B7-4DD1-A395-581F30D2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42A-DF2B-4004-B3F5-32B7FAC1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5F3-64D6-418E-BED4-993AA50E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792-F3B1-4AD8-8C39-B3521707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E97-EC37-4A2D-BEBC-5085F982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1B1-4244-4D97-A264-E99CBDC6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6B0E-A97D-4A2F-864A-6183CF8E00D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9133-EBD3-41F5-BD07-9A48C15EBF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CEEE-1150-4D3C-8FCB-C9EFA624EDBF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E6FD-0DDE-49C8-94FD-5B0D77C58B2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b.hel.fi/asko/index_en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itrix.com/index.asp" TargetMode="External"/><Relationship Id="rId2" Type="http://schemas.openxmlformats.org/officeDocument/2006/relationships/hyperlink" Target="http://www.citrix.com/index.asp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trix.com/index.asp" TargetMode="External"/><Relationship Id="rId2" Type="http://schemas.openxmlformats.org/officeDocument/2006/relationships/hyperlink" Target="http://www.citrix.com/index.asp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sko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The Customer Workstation 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0853DCB-AB45-4D36-886F-9F75BD3F25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Statis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Utilization rate more than 8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370 000 reservations per year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85 000 users in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8C13D-2A53-44B6-8827-555DD77F4D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Statistics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Usage of computers by the type of computer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0" y="1628640"/>
          <a:ext cx="9144000" cy="38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D3B5A-E3CA-4A3A-9FFF-BE4C413F49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Statistics</a:t>
            </a:r>
            <a:br>
              <a:rPr sz="4000"/>
            </a:b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Usage of computers by the type of reservatio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0" y="1936800"/>
            <a:ext cx="9144000" cy="382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554B1-7DF5-46FA-A5E1-91B9CE08B0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Objective access for al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One public PC for  1 000 citizen (A guideline of Ministry of Education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Only one reservation allow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Session time control by th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Access denied when malprac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8BCA6-D2F1-4624-922F-FA3965DBF9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800" spc="-1" strike="noStrike">
                <a:solidFill>
                  <a:srgbClr val="ffffcc"/>
                </a:solidFill>
                <a:latin typeface="Tahoma"/>
              </a:rPr>
              <a:t>Thank you !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5406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More 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12640" indent="-1969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lib.hel.fi/asko/index_en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12640" indent="-1969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olli.savonen@hel.f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3922560" cy="369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86F22-180B-4DEF-9F5F-D606DBADA37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The IT environment in Helsinki City Librar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 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n (Local area netwo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lan (wirel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VPN (Virtual private network for secure remote acc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obile ‘Stadinetti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aff PCs (55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andard pro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ortable Lap Top for LAN, WLAN and offline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ustomer workstations, 350 PCs in 40 bran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ultimedia (children) PC (offlin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al (studio) at Library 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talog browser (thin cli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ko workst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6B4D6-D1E9-4D8C-BDC5-D1129048B6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ff99"/>
                </a:solidFill>
                <a:latin typeface="Tahoma"/>
              </a:rPr>
              <a:t> </a:t>
            </a:r>
            <a:r>
              <a:rPr b="0" lang="fi-FI" sz="2400" spc="-1" strike="noStrike">
                <a:solidFill>
                  <a:srgbClr val="00ff99"/>
                </a:solidFill>
                <a:latin typeface="Tahoma"/>
              </a:rPr>
              <a:t>1990</a:t>
            </a: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 The first Word processing P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Microsoft Dos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Word Perfect 5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ff99"/>
                </a:solidFill>
                <a:latin typeface="Tahoma"/>
              </a:rPr>
              <a:t>1994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he first Internet browser P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Windows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Mosa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ff99"/>
                </a:solidFill>
                <a:latin typeface="Tahoma"/>
              </a:rPr>
              <a:t>1998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ustomer network PC with a library card re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 Windows NT 4 with taylor made featu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Microsoft Off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F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E3F0C-6F57-4CD9-903C-CE41614802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erminal Server based PC for all purpo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- Citrix Presentation Serv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- Windows X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Office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Multilanguage (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Multi keyboard (Russia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Internet Explo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Mozi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SSH Client for safe remote conne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Adobe Acrobat for making pdf-fi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Adobe Photoshop Elements for picture edi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Digital camera  dri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WinZip for packing fi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Scann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Multi card reader avail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USB memory sticks rea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85DC4-1844-4C27-81E5-36BED5B4B9F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5976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Compon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MILLENN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2209680"/>
            <a:ext cx="1143000" cy="9907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7057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Customer Works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848720" y="396252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Lucida Sans Unicode"/>
              </a:rPr>
              <a:t>Thin 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00720" y="1341360"/>
            <a:ext cx="1676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cc"/>
                </a:solidFill>
                <a:latin typeface="Lucida Sans Unicode"/>
              </a:rPr>
              <a:t>Booking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24480" y="1752480"/>
            <a:ext cx="1143000" cy="4572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33920" y="3886200"/>
            <a:ext cx="838080" cy="685800"/>
          </a:xfrm>
          <a:custGeom>
            <a:avLst/>
            <a:gdLst>
              <a:gd name="textAreaLeft" fmla="*/ 209520 w 838080"/>
              <a:gd name="textAreaRight" fmla="*/ 62856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76720" y="36576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Login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38680" y="68580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Custome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Librar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19920" y="1066680"/>
            <a:ext cx="228600" cy="381240"/>
          </a:xfrm>
          <a:custGeom>
            <a:avLst/>
            <a:gdLst>
              <a:gd name="textAreaLeft" fmla="*/ 30600 w 228600"/>
              <a:gd name="textAreaRight" fmla="*/ 198000 w 22860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990720"/>
            <a:ext cx="228600" cy="304560"/>
          </a:xfrm>
          <a:prstGeom prst="upDownArrow">
            <a:avLst>
              <a:gd name="adj1" fmla="val 50000"/>
              <a:gd name="adj2" fmla="val 26522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372360" y="5013360"/>
            <a:ext cx="24382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card+pin (keyboard entr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WIM (wireles ID mod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smart c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USB-flash + 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33920" y="2438280"/>
            <a:ext cx="23619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ID for loggin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name (email) o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library card nu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pin (4 digi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19520" y="479736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200" spc="-1" strike="noStrike">
                <a:solidFill>
                  <a:srgbClr val="ffffff"/>
                </a:solidFill>
                <a:latin typeface="Lucida Sans Unicode"/>
              </a:rPr>
              <a:t>Meta Fr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43200" y="5257800"/>
            <a:ext cx="99072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81680" y="27432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Efecte Network Insp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0" y="2971800"/>
            <a:ext cx="457200" cy="3049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2438280"/>
            <a:ext cx="152280" cy="2286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743200" y="3124080"/>
            <a:ext cx="6786720" cy="853920"/>
            <a:chOff x="2743200" y="3124080"/>
            <a:chExt cx="6786720" cy="853920"/>
          </a:xfrm>
        </p:grpSpPr>
        <p:sp>
          <p:nvSpPr>
            <p:cNvPr id="414" name=""/>
            <p:cNvSpPr/>
            <p:nvPr/>
          </p:nvSpPr>
          <p:spPr>
            <a:xfrm>
              <a:off x="2743200" y="3124080"/>
              <a:ext cx="6786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43200" y="3124080"/>
              <a:ext cx="67867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a3c145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6" name="logo" descr="Citrix.com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43657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575080" y="249084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Si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38280" y="2895480"/>
            <a:ext cx="9907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572000" y="2438280"/>
            <a:ext cx="1828800" cy="15242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24280" y="4267080"/>
            <a:ext cx="1600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057560" y="3006720"/>
            <a:ext cx="9144000" cy="360"/>
            <a:chOff x="4057560" y="3006720"/>
            <a:chExt cx="9144000" cy="360"/>
          </a:xfrm>
        </p:grpSpPr>
        <p:sp>
          <p:nvSpPr>
            <p:cNvPr id="422" name=""/>
            <p:cNvSpPr/>
            <p:nvPr/>
          </p:nvSpPr>
          <p:spPr>
            <a:xfrm>
              <a:off x="4057560" y="3006720"/>
              <a:ext cx="5340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57560" y="3006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4" name="3125ko90x74" descr=""/>
          <p:cNvPicPr/>
          <p:nvPr/>
        </p:nvPicPr>
        <p:blipFill>
          <a:blip r:embed="rId4"/>
          <a:stretch/>
        </p:blipFill>
        <p:spPr>
          <a:xfrm>
            <a:off x="6781680" y="3886200"/>
            <a:ext cx="1028880" cy="846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 flipH="1">
            <a:off x="3733560" y="4572000"/>
            <a:ext cx="2286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37320" y="464832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Secure Access Manag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1640" y="299088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HW &amp; S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Information itegar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(daily updat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96080" y="1557360"/>
            <a:ext cx="10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Open hours from Web Sit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05320" y="426420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Lucida Sans Unicode"/>
              </a:rPr>
              <a:t>PC (X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772400" y="1828800"/>
            <a:ext cx="762120" cy="304920"/>
          </a:xfrm>
          <a:prstGeom prst="can">
            <a:avLst>
              <a:gd name="adj" fmla="val 25000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43800" y="1981080"/>
            <a:ext cx="152280" cy="76320"/>
          </a:xfrm>
          <a:prstGeom prst="leftRightArrow">
            <a:avLst>
              <a:gd name="adj1" fmla="val 50000"/>
              <a:gd name="adj2" fmla="val 39721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772400" y="838080"/>
            <a:ext cx="304920" cy="2286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069040" y="835200"/>
            <a:ext cx="73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Act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Direc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59200" y="5473800"/>
            <a:ext cx="99036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74840" y="5689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90840" y="5905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3740040" y="1125360"/>
            <a:ext cx="1041480" cy="1405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6"/>
          <a:stretch/>
        </p:blipFill>
        <p:spPr>
          <a:xfrm>
            <a:off x="6659640" y="138240"/>
            <a:ext cx="541440" cy="5238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8"/>
          <a:stretch/>
        </p:blipFill>
        <p:spPr>
          <a:xfrm>
            <a:off x="5737320" y="28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47E21-E1F0-4D64-B588-CC6681295B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Fea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Login control (user id  &amp; pin co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Session time contr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User lock fe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Session temporary lock feature (for custom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Visitor disposable user ticket fe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Time boo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Queue mo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Highly integrated 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¤ library system data base (user id &amp; password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¤ web publishing system (open hours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¤ hardware scanning system (available PC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r profiles only on ser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atistics and tracing feat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A849D-C3D4-4BE4-BC0E-22F6126BBC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5976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Compon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Lucida Sans Unicode"/>
              </a:rPr>
              <a:t>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716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MILLENN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2209680"/>
            <a:ext cx="1143000" cy="9907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Customer Works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848720" y="396252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Lucida Sans Unicode"/>
              </a:rPr>
              <a:t>Thin 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00720" y="1341360"/>
            <a:ext cx="1676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cc"/>
                </a:solidFill>
                <a:latin typeface="Lucida Sans Unicode"/>
              </a:rPr>
              <a:t>Booking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324480" y="1752480"/>
            <a:ext cx="1143000" cy="4572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33920" y="3886200"/>
            <a:ext cx="838080" cy="685800"/>
          </a:xfrm>
          <a:custGeom>
            <a:avLst/>
            <a:gdLst>
              <a:gd name="textAreaLeft" fmla="*/ 209520 w 838080"/>
              <a:gd name="textAreaRight" fmla="*/ 62856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36576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Login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638680" y="68580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Custome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Librar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1066680"/>
            <a:ext cx="228600" cy="381240"/>
          </a:xfrm>
          <a:custGeom>
            <a:avLst/>
            <a:gdLst>
              <a:gd name="textAreaLeft" fmla="*/ 30600 w 228600"/>
              <a:gd name="textAreaRight" fmla="*/ 198000 w 22860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0" y="990720"/>
            <a:ext cx="228600" cy="304560"/>
          </a:xfrm>
          <a:prstGeom prst="upDownArrow">
            <a:avLst>
              <a:gd name="adj1" fmla="val 50000"/>
              <a:gd name="adj2" fmla="val 26522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72360" y="5013360"/>
            <a:ext cx="24382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card+pin (keyboard entr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WIM (wireles ID mod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smart c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USB-flash + 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2438280"/>
            <a:ext cx="23619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ID for loggin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name (email) o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library card nu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pin (4 digi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79736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200" spc="-1" strike="noStrike">
                <a:solidFill>
                  <a:srgbClr val="ffffff"/>
                </a:solidFill>
                <a:latin typeface="Lucida Sans Unicode"/>
              </a:rPr>
              <a:t>Meta Fr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5257800"/>
            <a:ext cx="99072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781680" y="27432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Efecte Network Insp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971800"/>
            <a:ext cx="457200" cy="3049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934320" y="2438280"/>
            <a:ext cx="152280" cy="2286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743200" y="3124080"/>
            <a:ext cx="6786720" cy="853920"/>
            <a:chOff x="2743200" y="3124080"/>
            <a:chExt cx="6786720" cy="853920"/>
          </a:xfrm>
        </p:grpSpPr>
        <p:sp>
          <p:nvSpPr>
            <p:cNvPr id="465" name=""/>
            <p:cNvSpPr/>
            <p:nvPr/>
          </p:nvSpPr>
          <p:spPr>
            <a:xfrm>
              <a:off x="2743200" y="3124080"/>
              <a:ext cx="6786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43200" y="3124080"/>
              <a:ext cx="67867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a3c145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7" name="logo" descr="Citrix.com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43657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575080" y="249084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Si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38280" y="2895480"/>
            <a:ext cx="9907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572000" y="2438280"/>
            <a:ext cx="1828800" cy="15242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24280" y="4267080"/>
            <a:ext cx="1600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057560" y="3006720"/>
            <a:ext cx="9144000" cy="360"/>
            <a:chOff x="4057560" y="3006720"/>
            <a:chExt cx="9144000" cy="360"/>
          </a:xfrm>
        </p:grpSpPr>
        <p:sp>
          <p:nvSpPr>
            <p:cNvPr id="473" name=""/>
            <p:cNvSpPr/>
            <p:nvPr/>
          </p:nvSpPr>
          <p:spPr>
            <a:xfrm>
              <a:off x="4057560" y="3006720"/>
              <a:ext cx="5340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57560" y="3006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5" name="3125ko90x74" descr=""/>
          <p:cNvPicPr/>
          <p:nvPr/>
        </p:nvPicPr>
        <p:blipFill>
          <a:blip r:embed="rId4"/>
          <a:stretch/>
        </p:blipFill>
        <p:spPr>
          <a:xfrm>
            <a:off x="6781680" y="3886200"/>
            <a:ext cx="1028880" cy="846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 flipH="1">
            <a:off x="3733560" y="4572000"/>
            <a:ext cx="2286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37320" y="464832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Secure Access Manag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51640" y="299088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HW &amp; S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Information itegar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(daily updat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1557360"/>
            <a:ext cx="10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Open hours from Web Sit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05320" y="426420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Lucida Sans Unicode"/>
              </a:rPr>
              <a:t>PC (X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772400" y="1828800"/>
            <a:ext cx="762120" cy="304920"/>
          </a:xfrm>
          <a:prstGeom prst="can">
            <a:avLst>
              <a:gd name="adj" fmla="val 25000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43800" y="1981080"/>
            <a:ext cx="152280" cy="76320"/>
          </a:xfrm>
          <a:prstGeom prst="leftRightArrow">
            <a:avLst>
              <a:gd name="adj1" fmla="val 50000"/>
              <a:gd name="adj2" fmla="val 39721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772400" y="838080"/>
            <a:ext cx="304920" cy="2286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69040" y="835200"/>
            <a:ext cx="73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Act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Direc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9200" y="5473800"/>
            <a:ext cx="99036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174840" y="5689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390840" y="5905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3740040" y="1125360"/>
            <a:ext cx="1041480" cy="14050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6"/>
          <a:stretch/>
        </p:blipFill>
        <p:spPr>
          <a:xfrm>
            <a:off x="6659640" y="138240"/>
            <a:ext cx="541440" cy="5238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8"/>
          <a:stretch/>
        </p:blipFill>
        <p:spPr>
          <a:xfrm>
            <a:off x="5737320" y="28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5CC8F-6A72-452A-B1A1-D8A0674DC4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ahoma"/>
              </a:rPr>
              <a:t>Asko’s Stand By- pag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539280" y="2636640"/>
            <a:ext cx="79930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Based on Citrix Presentation Server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No local software, programs run on servers (10 servers using Windows 2003 Server for 350 simultaneous user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ases application management and upgra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Applications installed and executed on central serv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Application interface will be brought to workstations through net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Integrated with the ”Book a PC” –service and session time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xecution of unwanted software disabled by software restriction poli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xtensive reporting capabilities (software and user statistic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-324000" y="692280"/>
            <a:ext cx="9753840" cy="66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962FD25-A702-4BEC-B7B3-8296ACA84E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Asko’s Log In- pag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50920" y="777960"/>
            <a:ext cx="8569080" cy="615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92263-4B94-4FD3-BB56-8C34228872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2:06:08Z</dcterms:created>
  <dc:creator>savoneno</dc:creator>
  <dc:description/>
  <dc:language>en-US</dc:language>
  <cp:lastModifiedBy>savoneno</cp:lastModifiedBy>
  <dcterms:modified xsi:type="dcterms:W3CDTF">2007-02-07T06:15:59Z</dcterms:modified>
  <cp:revision>27</cp:revision>
  <dc:subject/>
  <dc:title>Järjestelmäintegraatio</dc:title>
</cp:coreProperties>
</file>