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3EF-3AE5-4208-84DB-DD9E1D37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F959-8F82-47D3-A62F-CBE5AB85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9148-BC86-400B-8EE5-5C5DADF04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F4F-3B69-4B29-85A3-BD06D2A3D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46FE-920A-49D5-8007-36E1DE84C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8C66-460B-4BBE-8908-31E8F0B2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4DA9-0C69-4CA4-936B-8FD23A5C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B9D0-4349-4705-B055-130AF0DD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A0521-E8C9-4D10-A57B-6B3A76854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E57B6-E0FE-4AF1-BF7F-C60751C0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4E32-F7FA-4831-AADB-28C7F468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67CE-BCA6-484C-9D9C-96AB78AB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3EC6-22CA-46A7-ADE1-0D8335F5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FF4DC-54BF-4448-AC1C-97B9B247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1F6A-86A1-4434-B942-BE599F34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10A8-48C2-425A-8A14-15077DED8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57E3-F2E2-44D1-A798-F0ADC510E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7A5-38A8-4F79-B60F-2866CDF6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04A2-8778-47B1-B633-BCDAF9C3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72A-E0A2-4E79-BEF3-288143BB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C45-579D-470D-B32A-32741BD7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FF12-0023-4F9B-9E2B-8564E764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662C-F69C-4509-9CAB-DD63AA2F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D3D9-18D5-4299-B3D4-3426233D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AD7D2-C766-48B6-A1FD-F5DCF8DD3D60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D524-72DE-43AD-AF8E-343625539CF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C649-3195-4223-AEDA-EE6B33D65DE5}" type="datetime">
              <a:rPr b="0" lang="en-US" sz="1000" spc="-1" strike="noStrike">
                <a:solidFill>
                  <a:srgbClr val="ffffff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86F8-3578-4950-8800-C7F2A596090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lib.hel.fi/asko/index_en.htm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itrix.com/index.asp" TargetMode="External"/><Relationship Id="rId2" Type="http://schemas.openxmlformats.org/officeDocument/2006/relationships/hyperlink" Target="http://www.citrix.com/index.asp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sko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he Customer Workstation Conce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C9B31E9-87CB-4592-8A1C-BFE1A4B4A9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Statistic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Utilization rate more than 8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370 000 reservations per year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85 000 users in 2006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CD7562-BFFB-4B77-B8B2-C6A6109DF3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Statistics</a:t>
            </a: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Usage of computers by the type of computer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0" y="1628640"/>
          <a:ext cx="9144000" cy="383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28640"/>
                    <a:ext cx="9144000" cy="38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E0BD4E-F937-4E6B-9D7A-F6346C83B3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Statistics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ahoma"/>
              </a:rPr>
              <a:t>Usage of computers by the type of reservation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0" y="1936800"/>
            <a:ext cx="9144000" cy="382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C2A6B-8FFD-482E-9654-C743501543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Objective access for all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One public PC for  1 000 citizen (A guideline of Ministry of Education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Only one reservation allow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Session time control by th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ccess denied when malpract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7EE4D-972A-44C4-99FF-6F8ECB6552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ffffcc"/>
                </a:solidFill>
                <a:latin typeface="Tahoma"/>
              </a:rPr>
              <a:t>Thank you !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85406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More Inform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-196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www.lib.hel.fi/asko/index_en.ht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512640" indent="-196920">
              <a:lnSpc>
                <a:spcPct val="80000"/>
              </a:lnSpc>
              <a:spcBef>
                <a:spcPts val="45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olli.savonen@hel.f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4211640" y="2492280"/>
            <a:ext cx="3922560" cy="369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DA9E8-5778-4D52-83D2-FA8180257F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The IT environment in Helsinki City Library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2 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staf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n (Local area network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Wlan (wire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VPN (Virtual private network for secure remote acc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custom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La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obile ‘Stadinetti’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ff PCs (550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ndard pro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ortable Lap Top for LAN, WLAN and offline 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ustomer workstations, 350 PCs in 40 bran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Multimedia (children) PC (offlin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pecial (studio) at Library 1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talog browser (thin cli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ko workstation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4CDB8E-5531-4A56-A5B8-B9DFB627FD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ff99"/>
                </a:solidFill>
                <a:latin typeface="Tahoma"/>
              </a:rPr>
              <a:t> </a:t>
            </a:r>
            <a:r>
              <a:rPr b="0" lang="fi-FI" sz="2400" spc="-1" strike="noStrike">
                <a:solidFill>
                  <a:srgbClr val="00ff99"/>
                </a:solidFill>
                <a:latin typeface="Tahoma"/>
              </a:rPr>
              <a:t>1990</a:t>
            </a: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 The first Word processing P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icrosoft Dos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Word Perfect 5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ff99"/>
                </a:solidFill>
                <a:latin typeface="Tahoma"/>
              </a:rPr>
              <a:t>1994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The first Internet browser PC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Windows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osa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ff99"/>
                </a:solidFill>
                <a:latin typeface="Tahoma"/>
              </a:rPr>
              <a:t>1998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Customer network PC with a library card rea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 Windows NT 4 with taylor made featu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Microsoft Off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- FT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77BB0-A522-4521-9A7D-5F05F83171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Today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341360"/>
            <a:ext cx="854064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erminal Server based PC for all purpo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- Citrix Presentation Serv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- Windows XP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Office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language (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 keyboard (Russi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Internet Explor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ozill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SSH Client for safe remote conne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Adobe Acrobat for making pdf-f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Adobe Photoshop Elements for picture edi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Digital camera  dri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WinZip for packing fi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Scan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Multi card reader avail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66ffff"/>
                </a:solidFill>
                <a:latin typeface="Tahoma"/>
              </a:rPr>
              <a:t>USB memory sticks read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C1346-98A4-4785-9AD0-1A79CBC208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Compon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300720" y="1341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24480" y="17524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38680" y="6858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19920" y="1066680"/>
            <a:ext cx="228600" cy="38124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9907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243828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14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6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22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4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tegar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39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ADB83-8816-4B80-B82D-337C617078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Feat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Login control (user id  &amp; pin cod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Session time contro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User lock fe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Session temporary lock feature (for custom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Visitor disposable user ticket fea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Time book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Queue mo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 Highly integrated t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library system data base (user id &amp; password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web publishing system (open hours)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¤ hardware scanning system (available PC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r profiles only on serv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Statistics and tracing featu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050BC-471E-4A7F-9140-B83E955720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5976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Compon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24000" y="620280"/>
            <a:ext cx="85183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219320" y="30492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Lucida Sans Unicode"/>
              </a:rPr>
              <a:t>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3716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Sans Unicode"/>
              </a:rPr>
              <a:t>MILLENNIU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2209680"/>
            <a:ext cx="1143000" cy="9907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58128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Customer Works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848720" y="3962520"/>
            <a:ext cx="1066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ffffff"/>
                </a:solidFill>
                <a:latin typeface="Lucida Sans Unicode"/>
              </a:rPr>
              <a:t>Thin 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300720" y="1341360"/>
            <a:ext cx="1676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ffffcc"/>
                </a:solidFill>
                <a:latin typeface="Lucida Sans Unicode"/>
              </a:rPr>
              <a:t>Booking Syst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324480" y="1752480"/>
            <a:ext cx="1143000" cy="4572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733920" y="3886200"/>
            <a:ext cx="838080" cy="685800"/>
          </a:xfrm>
          <a:custGeom>
            <a:avLst/>
            <a:gdLst>
              <a:gd name="textAreaLeft" fmla="*/ 209520 w 838080"/>
              <a:gd name="textAreaRight" fmla="*/ 628560 w 8380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365760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Login Contr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638680" y="68580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Custome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Librari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9920" y="1066680"/>
            <a:ext cx="228600" cy="381240"/>
          </a:xfrm>
          <a:custGeom>
            <a:avLst/>
            <a:gdLst>
              <a:gd name="textAreaLeft" fmla="*/ 30600 w 228600"/>
              <a:gd name="textAreaRight" fmla="*/ 198000 w 228600"/>
              <a:gd name="textAreaTop" fmla="*/ 66600 h 381240"/>
              <a:gd name="textAreaBottom" fmla="*/ 27648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58000" y="990720"/>
            <a:ext cx="228600" cy="304560"/>
          </a:xfrm>
          <a:prstGeom prst="upDownArrow">
            <a:avLst>
              <a:gd name="adj1" fmla="val 50000"/>
              <a:gd name="adj2" fmla="val 26522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372360" y="5013360"/>
            <a:ext cx="24382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card+pin (keyboard entry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WIM (wireles ID mod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smart c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USB-flash + p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733920" y="2438280"/>
            <a:ext cx="236196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ID for loggin 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name (email) or</a:t>
            </a: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library card numb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# pin (4 digi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819520" y="479736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200" spc="-1" strike="noStrike">
                <a:solidFill>
                  <a:srgbClr val="ffffff"/>
                </a:solidFill>
                <a:latin typeface="Lucida Sans Unicode"/>
              </a:rPr>
              <a:t>Meta Fr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257800"/>
            <a:ext cx="99072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781680" y="27432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ffffcc"/>
                </a:solidFill>
                <a:latin typeface="Lucida Sans Unicode"/>
              </a:rPr>
              <a:t>Efecte Network Insp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971800"/>
            <a:ext cx="457200" cy="30492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934320" y="2438280"/>
            <a:ext cx="152280" cy="228600"/>
          </a:xfrm>
          <a:prstGeom prst="upArrow">
            <a:avLst>
              <a:gd name="adj1" fmla="val 50000"/>
              <a:gd name="adj2" fmla="val 3753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2743200" y="3124080"/>
            <a:ext cx="6786720" cy="853920"/>
            <a:chOff x="2743200" y="3124080"/>
            <a:chExt cx="6786720" cy="853920"/>
          </a:xfrm>
        </p:grpSpPr>
        <p:sp>
          <p:nvSpPr>
            <p:cNvPr id="465" name=""/>
            <p:cNvSpPr/>
            <p:nvPr/>
          </p:nvSpPr>
          <p:spPr>
            <a:xfrm>
              <a:off x="2743200" y="3124080"/>
              <a:ext cx="6786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43200" y="3124080"/>
              <a:ext cx="678672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a3c145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US" sz="5000" spc="-1" strike="noStrike">
                  <a:solidFill>
                    <a:srgbClr val="ffffff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                       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7" name="logo" descr="Citrix.com Home P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4365720"/>
            <a:ext cx="1371600" cy="10065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2575080" y="2490840"/>
            <a:ext cx="10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ffffff"/>
                </a:solidFill>
                <a:latin typeface="Lucida Sans Unicode"/>
              </a:rPr>
              <a:t>Sip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38280" y="2895480"/>
            <a:ext cx="990720" cy="7621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572000" y="2438280"/>
            <a:ext cx="1828800" cy="15242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724280" y="4267080"/>
            <a:ext cx="1600200" cy="15264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4057560" y="3006720"/>
            <a:ext cx="9144000" cy="360"/>
            <a:chOff x="4057560" y="3006720"/>
            <a:chExt cx="9144000" cy="360"/>
          </a:xfrm>
        </p:grpSpPr>
        <p:sp>
          <p:nvSpPr>
            <p:cNvPr id="473" name=""/>
            <p:cNvSpPr/>
            <p:nvPr/>
          </p:nvSpPr>
          <p:spPr>
            <a:xfrm>
              <a:off x="4057560" y="3006720"/>
              <a:ext cx="5340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57560" y="3006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75" name="3125ko90x74" descr=""/>
          <p:cNvPicPr/>
          <p:nvPr/>
        </p:nvPicPr>
        <p:blipFill>
          <a:blip r:embed="rId4"/>
          <a:stretch/>
        </p:blipFill>
        <p:spPr>
          <a:xfrm>
            <a:off x="6781680" y="3886200"/>
            <a:ext cx="1028880" cy="846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 flipH="1">
            <a:off x="3733560" y="4572000"/>
            <a:ext cx="228600" cy="304920"/>
          </a:xfrm>
          <a:prstGeom prst="line">
            <a:avLst/>
          </a:prstGeom>
          <a:ln cap="sq" w="12600">
            <a:solidFill>
              <a:srgbClr val="ffffff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37320" y="4648320"/>
            <a:ext cx="123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Secure Access Manager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7451640" y="2990880"/>
            <a:ext cx="144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HW &amp; SW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Information itegar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(daily updating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96080" y="1557360"/>
            <a:ext cx="105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800" spc="-1" strike="noStrike">
                <a:solidFill>
                  <a:srgbClr val="ffffff"/>
                </a:solidFill>
                <a:latin typeface="Lucida Sans Unicode"/>
              </a:rPr>
              <a:t>Open hours from Web Sit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005320" y="4264200"/>
            <a:ext cx="57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Lucida Sans Unicode"/>
              </a:rPr>
              <a:t>PC (XP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772400" y="1828800"/>
            <a:ext cx="762120" cy="304920"/>
          </a:xfrm>
          <a:prstGeom prst="can">
            <a:avLst>
              <a:gd name="adj" fmla="val 25000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43800" y="1981080"/>
            <a:ext cx="152280" cy="76320"/>
          </a:xfrm>
          <a:prstGeom prst="leftRightArrow">
            <a:avLst>
              <a:gd name="adj1" fmla="val 50000"/>
              <a:gd name="adj2" fmla="val 39721"/>
            </a:avLst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772400" y="838080"/>
            <a:ext cx="304920" cy="22860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069040" y="835200"/>
            <a:ext cx="734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Activ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000" spc="-1" strike="noStrike">
                <a:solidFill>
                  <a:srgbClr val="ffffff"/>
                </a:solidFill>
                <a:latin typeface="Lucida Sans Unicode"/>
              </a:rPr>
              <a:t>Directory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959200" y="5473800"/>
            <a:ext cx="990360" cy="38088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174840" y="5689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390840" y="5905440"/>
            <a:ext cx="990720" cy="381240"/>
          </a:xfrm>
          <a:prstGeom prst="flowChartMagneticDisk">
            <a:avLst/>
          </a:prstGeom>
          <a:solidFill>
            <a:srgbClr val="99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3740040" y="1125360"/>
            <a:ext cx="1041480" cy="14050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6"/>
          <a:stretch/>
        </p:blipFill>
        <p:spPr>
          <a:xfrm>
            <a:off x="6659640" y="138240"/>
            <a:ext cx="541440" cy="5238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8"/>
          <a:stretch/>
        </p:blipFill>
        <p:spPr>
          <a:xfrm>
            <a:off x="5737320" y="28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AADB6-D246-412B-97AA-992838F3F6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cc"/>
                </a:solidFill>
                <a:latin typeface="Tahoma"/>
              </a:rPr>
              <a:t>Asko’s Stand By- page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Based on Citrix Presentation Server soft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No local software, programs run on servers (10 servers using Windows 2003 Server for 350 simultaneous users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ases application management and upgrad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pplications installed and executed on central serv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Application interface will be brought to workstations through network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Integrated with the ”Book a PC” –service and session time contro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xecution of unwanted software disabled by software restriction polic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fi-FI" sz="1800" spc="-1" strike="noStrike">
                <a:solidFill>
                  <a:srgbClr val="ffffff"/>
                </a:solidFill>
                <a:latin typeface="Tahoma"/>
              </a:rPr>
              <a:t>Extensive reporting capabilities (software and user statistic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-324000" y="692280"/>
            <a:ext cx="9753840" cy="66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513570E-88AD-4F6A-83C2-926545D97C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406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cc"/>
                </a:solidFill>
                <a:latin typeface="Tahoma"/>
              </a:rPr>
              <a:t>Asko’s Log In- page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50920" y="777960"/>
            <a:ext cx="8569080" cy="615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Olli Savonen   Helsinki City Library - IT Uni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BC0CB-3808-42ED-8962-82B6D4F03D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2:06:08Z</dcterms:created>
  <dc:creator>savoneno</dc:creator>
  <dc:description/>
  <dc:language>en-US</dc:language>
  <cp:lastModifiedBy>savoneno</cp:lastModifiedBy>
  <dcterms:modified xsi:type="dcterms:W3CDTF">2007-02-07T06:15:59Z</dcterms:modified>
  <cp:revision>27</cp:revision>
  <dc:subject/>
  <dc:title>Järjestelmäintegraatio</dc:title>
</cp:coreProperties>
</file>