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wmf" ContentType="image/x-wmf"/>
  <Override PartName="/ppt/media/image14.wmf" ContentType="image/x-wmf"/>
  <Override PartName="/ppt/media/image22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1E44-5E9F-45F2-AC4D-F91A498E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D6A0-3E59-455E-ACE4-CD44567F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5F54-5309-4B5C-810F-C8DCDAD2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AB23-46A0-4A6D-BB36-B584E33D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C204-79A3-428E-A067-FAC611F1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C06D-1019-48F7-BD46-5CA3C6C2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8F36-EDB7-455C-BB36-35BB9E52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4717-2110-46D0-92F5-3EDDDB8E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9CF0-A01A-484D-8A90-361499AF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4DDB-CB0B-4002-9CAE-5D36D182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57C9-DD61-457D-A670-A9BAD555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92B-5497-4066-9D0C-B5C80138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5075-9793-45D6-86A9-E72C9DDA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FA9A-530B-4DF6-BAEE-DA9343C4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65FB-C8B4-4201-9606-5442B243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D88C-653C-4E21-8DF9-684C8F6F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7BDB-43AA-43D1-B0B7-B06F8159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4942-5EAE-4DDC-9ADE-0954900D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9AF8-586B-4642-8504-173C88BA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EC4-1983-4FE9-ADAF-A8638221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8E8D-041A-4C68-BDC0-130C999C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F0E-8542-41FC-8E1C-053581BB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5E3-F43C-40AA-B66C-06F73121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F205-1DEC-4008-B5DB-614E0495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7C09-6BBE-4056-A28F-F988302FC92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BC39-552D-46B5-A960-E9F71CA93B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5AA9-E6B9-4855-8E7B-D04667CCFB2B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CEBB-0139-49F3-8424-FA5B15EB225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ib.hel.f/" TargetMode="External"/><Relationship Id="rId2" Type="http://schemas.openxmlformats.org/officeDocument/2006/relationships/hyperlink" Target="http://www.kirjastot.fi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itrix.com/index.asp" TargetMode="External"/><Relationship Id="rId2" Type="http://schemas.openxmlformats.org/officeDocument/2006/relationships/hyperlink" Target="http://www.citrix.com/index.asp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Järjestelmäintegraatio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leisperiaatteita ja Helsingin kaupunginkirjaston toteutuk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22C81CE-044E-4B6A-BA5F-E875CA4B1D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Jaettuja julkishallinnon tietokantoj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1197000"/>
            <a:ext cx="144000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Henkil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V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92360" y="1628640"/>
            <a:ext cx="1511280" cy="79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Yhti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YT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124000" y="1916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3357720"/>
            <a:ext cx="1368360" cy="79200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Rekisterö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ajoneu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A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00360" y="3068640"/>
            <a:ext cx="1800360" cy="10796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iinteist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T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076720" y="2924280"/>
            <a:ext cx="1800360" cy="1441440"/>
          </a:xfrm>
          <a:prstGeom prst="rect">
            <a:avLst/>
          </a:prstGeom>
          <a:solidFill>
            <a:srgbClr val="9b99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Tont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M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451640" y="3068640"/>
            <a:ext cx="1692360" cy="1008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kennuslu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900000" y="2205000"/>
            <a:ext cx="50328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331640" y="2205000"/>
            <a:ext cx="208764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47640" y="2205000"/>
            <a:ext cx="187200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43280" y="3573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48360" y="3645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63640" y="5084640"/>
            <a:ext cx="352908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Oso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-muutos päivittyy periaattees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automaattisesti kaikkia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64000" y="4292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427280" y="4437000"/>
            <a:ext cx="10810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03640" y="2565360"/>
            <a:ext cx="86364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850920" y="2492280"/>
            <a:ext cx="36036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003040" y="135576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ösuhd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ä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60520" y="2508120"/>
            <a:ext cx="109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mist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45120" y="229248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mistaja, vuokra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633F8-28B5-422B-86A3-1FF10D3978B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unnustenhallinta integraatioss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ADFS eli Active Directory Federation Service;  Microsoft-ympäristössä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Esimerkiksi Shibboleth Unix-maailmass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Yhteensovitus mahdollista ja sen avulla jopa kertakirjautumimen mahdolist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Nelli on kansallinen tiedonhakuportaali, joka sisältää yliopisto- ja ammattikorkeakoulukirjastojen sekä yleisten kirjastojen hankkimia elektronisia aineistoja (mm. e-lehtiä, e-kirjoja ja viitetietokantoja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Nelli-portaalin kirjatumisjärjestelmänä on käytetty LDAPia (Lightweight Directory Access Protocol). Sen käyttö on mahdollista vain niissä yliopistoissa, joissa on LDAP-asiakashakemistorakenne. LDAPin huonona puolena on se, että kriittistä tietoa (salasana) kulkee portaalipalvelimella, vaikkakin salattuna. Shibboleth-tunnistustapa ratkaisee tämän ongelman. Shibboleth-järjestelmässä kirjautumista varten siirrytään kotiorganisaation kirjautumispalvelimelle, jossa käyttäjä tunnistetaan. Tämän jälkeen Nelli-portaalille lähetään tieto siitä, että käyttäjä on tunnistettu. Nellissä asiakas yksilöidään sähköpostiosoitteen alkuosan avull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Turvallisen tunnistamisen lisäksi Shibboleth mahdollistaa kertakirjatumisen. Kertaalleen autentikoidun asiakkaan ei tarvitse kirjautua uudelleen siirtyessään palvelusta toiseen, sillä Shibboleth-tekniikalla voidaan välittää tiedot autentikoidusta henkilöstä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8B584-8163-4352-96E9-DEC8703E52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cc"/>
                </a:solidFill>
                <a:latin typeface="Tahoma"/>
              </a:rPr>
              <a:t>Tunnustenhallinta integraatiossa</a:t>
            </a:r>
            <a:br>
              <a:rPr sz="2800"/>
            </a:br>
            <a:r>
              <a:rPr b="0" lang="fi-FI" sz="28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fi-FI" sz="1800" spc="-1" strike="noStrike">
                <a:solidFill>
                  <a:srgbClr val="ffffcc"/>
                </a:solidFill>
                <a:latin typeface="Tahoma"/>
              </a:rPr>
              <a:t>Helmet-konsortion ulkoistetun hankintajärjestelmän käyttö</a:t>
            </a:r>
            <a:br>
              <a:rPr sz="1800"/>
            </a:br>
            <a:r>
              <a:rPr b="0" lang="fi-FI" sz="1800" spc="-1" strike="noStrike">
                <a:solidFill>
                  <a:srgbClr val="ffffcc"/>
                </a:solidFill>
                <a:latin typeface="Tahoma"/>
              </a:rPr>
              <a:t>-AD integraatio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13744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7BE79-7947-4049-8201-8B8C615D5B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oteutuksia Helsingin kaupunginkirjastoss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Julkaisujärjestelm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Intra – Internet (Web Servic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Asiakastyöasemien ajanvara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Efecte Asset – Asta (XLS)</a:t>
            </a: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Kirjautumi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Millennium – Asko (SIP 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Logistiik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Helmet-kirjastojen hankintajärjestelm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C51B3-2EA1-4E3B-9810-0E5CE9892A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Julkaisujärjestelmä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Intranet; Meteor julkaisujärjestelmä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ww.lib.hel.f</a:t>
            </a: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 ; -//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www.kirjastot.f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Meteor pohjautuu täysin rakenteiseen ja määrämuotoiseen sisältöön, joten käytännössä mitä tahansa liittymämallia voidaan käyttää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Esimerkiks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XML Web Servi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RSS- ja ATOM- feedi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Active Directory –liittymä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Suorat tietokantayhteydet (samassa lähiverkon osass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Tiedon tuonti/vienti Microsoft Office-tuotteis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CSV –tekstitiedost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Kertakirjautuminen eri palveluiden välillä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Räätälöidyt liittymä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B4AA9-72A0-4EB1-BD17-6AEFA12276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i-FI" sz="2400" spc="-1" strike="noStrike">
                <a:solidFill>
                  <a:srgbClr val="ffffcc"/>
                </a:solidFill>
                <a:latin typeface="Tahoma"/>
              </a:rPr>
              <a:t>CSV-tiedoston muodostaminenExcelillä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5832360" cy="49532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6941520" y="2147760"/>
            <a:ext cx="221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Tiedo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Tallenna nimell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Tiedostomuo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CS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EA008-D484-4752-9667-BDE1E492F2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cc"/>
                </a:solidFill>
                <a:latin typeface="Tahoma"/>
              </a:rPr>
              <a:t>Esimerkiksi CSV-tiedoston muodostaminenExcelillä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253360" cy="465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B2587-9622-48E2-BF7C-C03626081D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iittymäarkkitehtuur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763640" y="1420920"/>
            <a:ext cx="611028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BC98D-DE67-46B4-B5D1-5C2DDDAA13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5976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cc"/>
                </a:solidFill>
                <a:latin typeface="Tahoma"/>
              </a:rPr>
              <a:t>Asko-asiakastietokone </a:t>
            </a:r>
            <a:r>
              <a:rPr b="0" lang="fi-FI" sz="1200" spc="-1" strike="noStrike">
                <a:solidFill>
                  <a:srgbClr val="ffffcc"/>
                </a:solidFill>
                <a:latin typeface="Tahoma"/>
              </a:rPr>
              <a:t>(www.lib.hel.fi/asko)</a:t>
            </a:r>
            <a:r>
              <a:rPr b="0" lang="fi-FI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000"/>
            </a:br>
            <a:r>
              <a:rPr b="1" lang="fi-FI" sz="2000" spc="-1" strike="noStrike">
                <a:solidFill>
                  <a:srgbClr val="ffffcc"/>
                </a:solidFill>
                <a:latin typeface="Tahoma"/>
              </a:rPr>
              <a:t>- komponentit            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85183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219320" y="30492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716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Sans Unicode"/>
              </a:rPr>
              <a:t>MILLENN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95280" y="2209680"/>
            <a:ext cx="1143000" cy="99072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7057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Customer Works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848720" y="3962520"/>
            <a:ext cx="1066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Lucida Sans Unicode"/>
              </a:rPr>
              <a:t>Thin 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00720" y="1557360"/>
            <a:ext cx="1676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cc"/>
                </a:solidFill>
                <a:latin typeface="Lucida Sans Unicode"/>
              </a:rPr>
              <a:t>Booking 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372360" y="1916280"/>
            <a:ext cx="1143000" cy="45720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33920" y="3886200"/>
            <a:ext cx="838080" cy="685800"/>
          </a:xfrm>
          <a:custGeom>
            <a:avLst/>
            <a:gdLst>
              <a:gd name="textAreaLeft" fmla="*/ 209520 w 838080"/>
              <a:gd name="textAreaRight" fmla="*/ 62856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76720" y="36576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Login 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35640" y="68580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Customer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Librar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(https://varaus.lib.hel.f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12000" y="1197000"/>
            <a:ext cx="228600" cy="380880"/>
          </a:xfrm>
          <a:custGeom>
            <a:avLst/>
            <a:gdLst>
              <a:gd name="textAreaLeft" fmla="*/ 30600 w 228600"/>
              <a:gd name="textAreaRight" fmla="*/ 198000 w 22860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77080" y="12682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372360" y="5013360"/>
            <a:ext cx="24382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card+pin (keyboard entr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WIM (wireless ID modu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smart c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USB-flash + p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2438280"/>
            <a:ext cx="236196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ID for loggin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name (email) or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library card numb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pin (4 digi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19520" y="479736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200" spc="-1" strike="noStrike">
                <a:solidFill>
                  <a:srgbClr val="ffffff"/>
                </a:solidFill>
                <a:latin typeface="Lucida Sans Unicode"/>
              </a:rPr>
              <a:t>Meta Fr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43200" y="5257800"/>
            <a:ext cx="990720" cy="38088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81680" y="27432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Efecte Network Insp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0" y="2971800"/>
            <a:ext cx="457200" cy="30492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948360" y="2565360"/>
            <a:ext cx="152640" cy="228600"/>
          </a:xfrm>
          <a:prstGeom prst="upArrow">
            <a:avLst>
              <a:gd name="adj1" fmla="val 50000"/>
              <a:gd name="adj2" fmla="val 37441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743200" y="3124080"/>
            <a:ext cx="6786720" cy="853920"/>
            <a:chOff x="2743200" y="3124080"/>
            <a:chExt cx="6786720" cy="853920"/>
          </a:xfrm>
        </p:grpSpPr>
        <p:sp>
          <p:nvSpPr>
            <p:cNvPr id="468" name=""/>
            <p:cNvSpPr/>
            <p:nvPr/>
          </p:nvSpPr>
          <p:spPr>
            <a:xfrm>
              <a:off x="2743200" y="3124080"/>
              <a:ext cx="6786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43200" y="3124080"/>
              <a:ext cx="67867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a3c145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50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0" name="logo" descr="Citrix.com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43657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2575080" y="2490840"/>
            <a:ext cx="10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Sip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438280" y="2895480"/>
            <a:ext cx="990720" cy="76212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572000" y="2438280"/>
            <a:ext cx="1828800" cy="15242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24280" y="4267080"/>
            <a:ext cx="1600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057560" y="3006720"/>
            <a:ext cx="9144000" cy="360"/>
            <a:chOff x="4057560" y="3006720"/>
            <a:chExt cx="9144000" cy="360"/>
          </a:xfrm>
        </p:grpSpPr>
        <p:sp>
          <p:nvSpPr>
            <p:cNvPr id="476" name=""/>
            <p:cNvSpPr/>
            <p:nvPr/>
          </p:nvSpPr>
          <p:spPr>
            <a:xfrm>
              <a:off x="4057560" y="3006720"/>
              <a:ext cx="5340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057560" y="3006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8" name="3125ko90x74" descr=""/>
          <p:cNvPicPr/>
          <p:nvPr/>
        </p:nvPicPr>
        <p:blipFill>
          <a:blip r:embed="rId4"/>
          <a:stretch/>
        </p:blipFill>
        <p:spPr>
          <a:xfrm>
            <a:off x="6781680" y="3886200"/>
            <a:ext cx="1028880" cy="8460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 flipH="1">
            <a:off x="3733560" y="4572000"/>
            <a:ext cx="22860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937320" y="464832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Secure Access Manag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451640" y="2990880"/>
            <a:ext cx="144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HW &amp; SW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Information integra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(daily updat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96080" y="1557360"/>
            <a:ext cx="10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Open hours from Web Sit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005320" y="426420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Lucida Sans Unicode"/>
              </a:rPr>
              <a:t>PC (XP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772400" y="1828800"/>
            <a:ext cx="762120" cy="304920"/>
          </a:xfrm>
          <a:prstGeom prst="can">
            <a:avLst>
              <a:gd name="adj" fmla="val 25000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543800" y="1981080"/>
            <a:ext cx="152280" cy="76320"/>
          </a:xfrm>
          <a:prstGeom prst="leftRightArrow">
            <a:avLst>
              <a:gd name="adj1" fmla="val 50000"/>
              <a:gd name="adj2" fmla="val 39721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772400" y="838080"/>
            <a:ext cx="304920" cy="22860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069040" y="835200"/>
            <a:ext cx="73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000" spc="-1" strike="noStrike">
                <a:solidFill>
                  <a:srgbClr val="ffffff"/>
                </a:solidFill>
                <a:latin typeface="Lucida Sans Unicode"/>
              </a:rPr>
              <a:t>Activ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000" spc="-1" strike="noStrike">
                <a:solidFill>
                  <a:srgbClr val="ffffff"/>
                </a:solidFill>
                <a:latin typeface="Lucida Sans Unicode"/>
              </a:rPr>
              <a:t>Direc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59200" y="5473800"/>
            <a:ext cx="990360" cy="38088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74840" y="5689440"/>
            <a:ext cx="990720" cy="38124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90840" y="5905440"/>
            <a:ext cx="990720" cy="38124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5"/>
          <a:stretch/>
        </p:blipFill>
        <p:spPr>
          <a:xfrm>
            <a:off x="3740040" y="1125360"/>
            <a:ext cx="1041480" cy="14050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6"/>
          <a:stretch/>
        </p:blipFill>
        <p:spPr>
          <a:xfrm>
            <a:off x="6659640" y="138240"/>
            <a:ext cx="541440" cy="5238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8"/>
          <a:stretch/>
        </p:blipFill>
        <p:spPr>
          <a:xfrm>
            <a:off x="5737320" y="287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48ED6-B18C-47AE-918D-E7EE87C57E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Kahden järjestelmän integraatiototeutu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Tietokantapohjainen integraatio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0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Efecte Asset</a:t>
            </a: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               Asta ajanvara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3411000" y="2090160"/>
            <a:ext cx="1674000" cy="1363680"/>
            <a:chOff x="3411000" y="2090160"/>
            <a:chExt cx="1674000" cy="1363680"/>
          </a:xfrm>
        </p:grpSpPr>
        <p:sp>
          <p:nvSpPr>
            <p:cNvPr id="498" name="_s32776"/>
            <p:cNvSpPr/>
            <p:nvPr/>
          </p:nvSpPr>
          <p:spPr>
            <a:xfrm>
              <a:off x="3719880" y="2090160"/>
              <a:ext cx="1056600" cy="939240"/>
            </a:xfrm>
            <a:custGeom>
              <a:avLst/>
              <a:gdLst>
                <a:gd name="textAreaLeft" fmla="*/ 0 w 1056600"/>
                <a:gd name="textAreaRight" fmla="*/ 1056960 w 1056600"/>
                <a:gd name="textAreaTop" fmla="*/ 0 h 939240"/>
                <a:gd name="textAreaBottom" fmla="*/ 939600 h 93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_s32777"/>
            <p:cNvSpPr/>
            <p:nvPr/>
          </p:nvSpPr>
          <p:spPr>
            <a:xfrm rot="7200000">
              <a:off x="3922560" y="2253960"/>
              <a:ext cx="939600" cy="105660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1056600"/>
                <a:gd name="textAreaBottom" fmla="*/ 1056960 h 105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_s32779"/>
            <p:cNvSpPr/>
            <p:nvPr/>
          </p:nvSpPr>
          <p:spPr>
            <a:xfrm rot="14400000">
              <a:off x="3633480" y="2254320"/>
              <a:ext cx="939600" cy="105660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1056600"/>
                <a:gd name="textAreaBottom" fmla="*/ 1056960 h 105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_s32774"/>
            <p:cNvSpPr/>
            <p:nvPr/>
          </p:nvSpPr>
          <p:spPr>
            <a:xfrm>
              <a:off x="4537440" y="2261880"/>
              <a:ext cx="42372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_s32775"/>
            <p:cNvSpPr/>
            <p:nvPr/>
          </p:nvSpPr>
          <p:spPr>
            <a:xfrm>
              <a:off x="4036680" y="3034800"/>
              <a:ext cx="42372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_s32778"/>
            <p:cNvSpPr/>
            <p:nvPr/>
          </p:nvSpPr>
          <p:spPr>
            <a:xfrm>
              <a:off x="3534480" y="2262600"/>
              <a:ext cx="42372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1722240" cy="14400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6084720" y="2133720"/>
            <a:ext cx="1722600" cy="151128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0" y="3860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skannaa asiakaskoneet (350)  kerran päivässä ja kirjoittaa tietokantatauluun tilant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virkailija täydentää esimerkiksi jonotuskone/varauskonetiedon, lisälaitteet kuten skanneri, käyttöa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16360" y="3789360"/>
            <a:ext cx="442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virkailija ylläpitää tilatieto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(kunnossa tai e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järjestelmä kirjautuu ajastetusti kerran päivässä Assettiin ja noutaa päivitetyn tilanteen ja palauttaa laitteiden tilatie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toimintaa voidaan jatkaa ’vanhalla’ tilanteella, mikäli haku ei onnis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D49B7-39B9-4D34-BC01-9E0FA35597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lekirjoittaneen taus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K, tietotekniikkapäällikk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 v. yksityisen palvelukses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kia 1973-197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etonauha 1980-198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ukomarkkinat 1987-199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singin kaupunki 14 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kennusvirasto 3 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upunginkirjasto 11 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FE215-C2E7-451A-9976-C0AC6E2602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cc"/>
                </a:solidFill>
                <a:latin typeface="Tahoma"/>
              </a:rPr>
              <a:t>Efecte Asset- laitetiedo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1576440" y="1752480"/>
            <a:ext cx="59911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0E25F-4519-4EDA-B556-3B686C99F8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sta - virkailijavarau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2847960" y="1395360"/>
            <a:ext cx="3448080" cy="40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D5BD6-A85E-49C4-A0E0-1668A16914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lautusautomaatt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181720" cy="443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703DF-F7C9-4479-A300-867DC131C4A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980640"/>
            <a:ext cx="8540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Palautettu aineisto jakautuu pääsäntöisesti kahteen: kyseiseen kirjastoon jäävään ja jatkokuljetista vaativaan (varatut ja muiden kirjastojen niteet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265800" cy="40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279C9-D589-45C7-A3B8-6C18C480A2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38386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836280"/>
            <a:ext cx="85406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jittel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000 nidettä per päiv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3924360" y="0"/>
            <a:ext cx="5078520" cy="613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9F4C8-6E38-4405-8EA0-B6CE9A7D14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3765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320" y="907920"/>
            <a:ext cx="58546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Tahoma"/>
              </a:rPr>
              <a:t>Ohjaustietoko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Tahoma"/>
              </a:rPr>
              <a:t>PC kytkettynä lajittelijaan, jossa erityisominaisuutena 2 kpl Com-portteja. Com1 lajittelijan logiikkayksikkö ja Com2 lajittelijan Sick laserlukija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6409080" cy="43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E8521-3F8C-439C-830E-BF99ABA7EF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7032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836640"/>
            <a:ext cx="2541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Skanna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3780000" y="17640"/>
            <a:ext cx="5130720" cy="68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C23AC-D5D2-457E-8CB9-24A63EEA16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4783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3693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jittelu laatikoih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6467400" cy="484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B3608-CD4F-4DFF-8071-E20F23068C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Tekninen toteutus tietojen noutamiseen Millenniumis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Tiedot haetaan ohjaustyöasemassa käynnistettävällä SmartTerm 7-emulaattori- makroll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Liittymä on merkkipohjainen Innopac ja makroon on nauhoitettu tarvittavat komenn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Ajo ajetaan normaalin Create List toiminnon avul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Listauksesta muodostetaan tiedosto joka tuodaan kirjaston verkossa sijaitsevalle FTP-palvelimelle käyttäjän pyynnöllä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Millenniumilta ei voi noutaa dataa vaan data tulee lähettää Millenniumin omalla FTP -clientilla ulospäi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5B513-75CD-470A-8DA5-8391C762E2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ankintajärjestelmän integrointi laskutusjärjestelmään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4064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Hankintajärjestelmä tuottaa tilauksia toimittajalle, jolta lähtee sähköinen lasku tilaajan laskutusjärjestelmää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Finvoic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PartyIdentifier&gt;[Myyjäkortistossa oleva sellerpartyidentifier myyjän tunnistamiseen]&lt;/SellerPartyIdentifi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OrganisationName&gt;[Myyjän nimi]&lt;/SellerOrganisation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ContactPersonName&gt;[Myyjän lisänimi]&lt;/SellerContactPerson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StreetName&gt;[Myyjän katuosoite]&lt;/SellerStreet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PostCodeIdentifier&gt;[Myyjän postiosoite]&lt;/SellerPostCodeIdentifi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TownName&gt;[Myyjän kaupunki]&lt;/SellerTown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PhoneNumberIdentifier&gt;[Myyjän puhelin]&lt;/SellerPhoneNumberIdentifi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FaxNumber&gt;[Myyjän telefax]&lt;/SellerFaxNumb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EmailaddressIdentifier&gt;[Myyjän sähköposti]&lt;/SellerEmailaddressIdentifi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WebaddressIdentifier&gt;[Myyjän kotisivujen osoite]&lt;/SellerWebaddressIdentifi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0A7B4-1003-4BC5-BB89-C68F414B1C6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arrastukse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914400" y="1106640"/>
            <a:ext cx="6753240" cy="506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B0CEE-4384-41EC-AAA0-B56B721F9D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ankintajärjestelmän integrointi laskutusjärjestelmään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54064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ahoma"/>
              </a:rPr>
              <a:t>Hankintajärjestelmä tuottaa tilauksia toimittajalle, jolta lähtee sähköinen lasku tilaajan laskutusjärjestelmään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NormalProposedAccountIdentifier&gt;[kirjanpitotili]&lt;/NormalProposedAccountIdentifier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AccountDimensionText&gt;[kirjanpidon kustannuspaikka]&lt;/AccountDimensionText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ShortProposedAccountIdentifier&gt;[tuoterivin ostoreskontran kustannuspaikka]&lt;/RowShortProposedAccountIdentifier&gt;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NormalProposedAccountIdentifier&gt;[tuoterivin kirjanpitotili]&lt;/RowNormalProposedAccountIdentifier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AccountDimensionText&gt;[kirjanpidon kustannuspaikka]&lt;/RowAccountDimensionText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ArticleName&gt;[tiliöintiselite]&lt;/ArticleName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VatRatePercent&gt;[verokanta]&lt;/RowVatRatePercent&gt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VatAmount&gt;[alv euroa]&lt;/RowVatAmount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VatExcludedAmount&gt;[veroton rivisumma]&lt;/RowVatExcludedAmount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Amount&gt;[rivisumma sisältäen alv:n]&lt;/RowAmount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/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&lt;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... seuraava laskuriv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&lt;/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&lt;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... seuraava laskuriv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/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... seuraava laskuriv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/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/Finvoice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&lt;Finvoice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... uusi lasku alkaa tästä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&lt;/Finvoice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BCBE4-5DE9-4A90-B311-B04436BACC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ankintajärjestelmän integrointi laskutusjärjestelmään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54064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skutusjärjestelmä välittää hankintajärjestelmälle laskun rivit, joita verrataan saapumistarkastukse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issa kirjaston tilauksissa tullaan käyttämään Kosti- ostotilausjärjestelmää, joka niinikään on integroitu laskutusjärjestelmää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iissä tapauksissa, kun tilaus vastaa toimitusta, ei laskuja tarvitse hyväksyä lainkaan. Hyväksyminen toteutuu jo tilausvaltuuksi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CFB62-05A8-4FD7-B16A-7104BCF94E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Helsingin kaupungin integrointiratkaisuja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539640" y="907920"/>
            <a:ext cx="734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imittajilta on vaadittu kilpailutuksesta verkkokauppasovell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erkkokauppaan tehdystä tilauksesta saadaan vahvistus sähköposti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064720" cy="452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629E7-26F0-4B91-8812-4C8412FC29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Helsingin kaupungin integrointiratkaisuj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04840" y="1081080"/>
            <a:ext cx="8543880" cy="515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A920E-8FB9-404C-917E-D78A986A0D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Helsingin kaupungin integrointiratkaisuj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Myös palute- ja laskujenkäsittelyjärjestelmä (Bib) on integroitu sähköposti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Jatkossa ostotilausjärjestelmä integroidaan laskujenkäsittelyyn siten, että valtuutettua tilausta vastaan saatua sähköistä laskua ei tarvitse enää erikseen hyväksyä (jos se eroaa vain vähän tilauksen summast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B22DD-AC87-4BEF-82C6-FE6529751F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Uusia liittymätapoj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ffff"/>
                </a:solidFill>
                <a:latin typeface="Tahoma"/>
              </a:rPr>
              <a:t>RSS</a:t>
            </a: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 on lyhenne sanoista Really Simple Syndication  (RSS 2.0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XML-pohjainen standardoitu välitystapa sisällön siirtämiselle palveluiden välillä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ebXML liiketoimintalähtöinen (business) mall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RSS mahdollistaa tiedon tilaamisen omalle päätelaitteelle (Internet-selain, sähköpostisovellus, matkapuhelin, Windows Vistan työpöytä jne.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RSS mahdollistaa myös sisällön liittämisen osaksi toista verkkopalvelu (Googlen ja Live.comin personoidut työpöydät, portaalit, intranetit jne.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7AE19-1CA7-4C16-9AF9-DB8656B077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ahoma"/>
              </a:rPr>
              <a:t>Kirjastot.fi:n RSS-feedi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Ajankohtaista: http://www.kirjastot.fi/rss/tiedotteet.xm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Ammattikalenteri: http://www.kirjastot.fi/rss/ammattikalenteri.xm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Keskustelut ja blogit: http://www.kirjastot.fi/rss/keskustelut.xm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Kirjastoalan lehtiseuranta: http://www.kirjastot.fi/rss/lehdet.xm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Kysy kirjastonhoitajalta uusia vastauksia: http://www.kirjastot.fi/rss/kysy_kirjastonhoitajalta.xm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Linkkikirjaston uusia linkkejä: http://www.kirjastot.fi/rss/linkit.xml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24C63-CCF6-4A02-8F87-D26DF3DFC0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ahoma"/>
              </a:rPr>
              <a:t>Esimerkki RSS-toteutuksest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220240" cy="506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5D8B9-89C8-451F-8718-749B7C5ABF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Uusia liittymätapoj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ffff"/>
                </a:solidFill>
                <a:latin typeface="Tahoma"/>
              </a:rPr>
              <a:t>Atom F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Atom Syndication on RSS Feedeille vaihtoehtoinen tapa sisällön siirtämiselle palveluiden välillä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Monipuolisempi kuin RS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Ei yhtä laajalti tuettu (useimmissa päätelaitteissa / sovelluksissa ei sisäänrakennettua tukea, vaatii kolmannen osapuolen laajennuksen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Useat palvelut mahdollistavat sekä RSS- että ATOM- määritysten mukaisten feedien tuottamisen / lukemis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E62FB-1CD6-4E92-B162-C266C13A59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Yhteenveto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675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Integraation tarpeet</a:t>
            </a:r>
            <a:br>
              <a:rPr sz="1400"/>
            </a:b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Verkottuminen, toimintaympäristön monimutkaistuminen sekä (liike)toiminnan ja teknologian kiihtyvä muutos korostavat integraation merkitystä. Integraatio tarkoittaa järjestelmien lisäksi myös käyttäjien ja liiketoimintaprosessien kytkemistä toisiinsa virastoissa, kunnissa, yrityksissä ja niiden välillä. </a:t>
            </a:r>
            <a:br>
              <a:rPr sz="1400"/>
            </a:br>
            <a:br>
              <a:rPr sz="1400"/>
            </a:b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Kytkentöjen jatkuvan muutosprosessin hallinta on yhä keskeisempi haaste, jota ei voi hoitaa yksittäisen järjestelmähankkeen osana; integraatio onkin yhä useammin keskeisin tietohallintotehtävä. Hallittu integraatio on johdettua ja tehokas toimintastrategioiden toteutusvälin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Tietojärjestelmäkehittämisessä on kolme osa-aluett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Prosessi(toiminta)muutokset, IT-arkkitehtuuri ja tietojärjestelmien kehity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Kestävällä arkkitehtuurilla kestäviä järjestelmiä</a:t>
            </a:r>
            <a:br>
              <a:rPr sz="1400"/>
            </a:br>
            <a:br>
              <a:rPr sz="1400"/>
            </a:b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IT-arkkitehtuuri jäsentää tietojärjestelmäkentän sektoreihin esimerkiksi toiminnallisin tai teknologisin perustein. Kestävää arkkitehtuuria hallitaan määrittelemällä sektoreittain parhaat ratkaisumallit teknologioiden elinkaarivaiheittain. Yksittäisen järjestelmän arkkitehtuuri johdetaan sektorin arkkitehtuurista ratkaisemaan järjestelmän ei-toiminnalliset vaatimukset.</a:t>
            </a:r>
            <a:br>
              <a:rPr sz="1400"/>
            </a:br>
            <a:br>
              <a:rPr sz="1400"/>
            </a:b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Integraatio tulee organisaatiossa ajankohtaiseksi tietojärjestelmiä hankittaessa ja ylläpidettäessä. Ohjelmistotyöstä 70 % lasketaan johtuvan integroinnista. ICT-järjestelmien ja toiminnan kehittäminen siis sulautuvat toisiinsa. Integrointityössä kohdattavat haasteet eivät ole siis pelkästään teknisiä, joten se on tietohallinnon, prosessien omistajien ja ohjelmistokehittäjien yhteinen asi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5C0D0-E38C-4646-A115-68EDB2CC44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Tahoma"/>
              </a:rPr>
              <a:t>Kirjaston it-ympärist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Helsingin kaupunginkirjastos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600 virkailijakonet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360 asiakaskonet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30 palvelinta (intra, web, Citrix PS,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It- henkilöst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6 it ammattila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4 koulutettuan aluetukihenkilö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60 oto lähitukihenkilö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4EC57-4807-475C-902C-D832F7F001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iito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F3E5E-B3FB-4A8B-B05C-9D33F57867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Tahoma"/>
              </a:rPr>
              <a:t>Kirjaston IT-ympärist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187280" y="1700280"/>
            <a:ext cx="3383280" cy="1441440"/>
          </a:xfrm>
          <a:prstGeom prst="ellipse">
            <a:avLst/>
          </a:prstGeom>
          <a:solidFill>
            <a:srgbClr val="ccffff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Tahoma"/>
              </a:rPr>
              <a:t>Kirjastot.f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219640" y="1844640"/>
            <a:ext cx="3600360" cy="2305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Tahoma"/>
              </a:rPr>
              <a:t>HelMet.f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0920" y="3645000"/>
            <a:ext cx="5329080" cy="25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Keskitetyt palvel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40 toimipistett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3 kirjastoaut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11 laitoskirjast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D43F5-DB5E-432A-B871-7AA93D37B4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ärjestelmät integroidaan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Eri siirtotavoi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Erilaisten liityntäpintojen kaut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Tahoma"/>
              </a:rPr>
              <a:t>Teknisesti integraatioratkaisut voidaan jakaa neljään luokkaa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Tahoma"/>
              </a:rPr>
              <a:t>SOA eli palvelupohjaiset ratkaisu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Tahoma"/>
              </a:rPr>
              <a:t>EDA eli tapahtumapohjaiset ratkaisut, EDI/OV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Tahoma"/>
              </a:rPr>
              <a:t>Point-to-point eli suorat järjestelmien väliset liitännä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Tahoma"/>
              </a:rPr>
              <a:t>DI eli tietokantaintegraat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Tahoma"/>
              </a:rPr>
              <a:t>Eri ratkaisuista valitaan kohdeympäristöön sopiva kokonaisuus, jonka avulla integraatio toteutetaan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600" spc="-1" strike="noStrike">
                <a:solidFill>
                  <a:srgbClr val="ffffff"/>
                </a:solidFill>
                <a:latin typeface="Tahoma"/>
              </a:rPr>
              <a:t>Valittavana ovat SOA-tyyppiset teknologiat kuten WebServices, sanomanvälitysjärjestelmät (Message-Oriented Middleware, MOM) sekä näiden varaan rakentuvat Enterprise Service Bus (ESB)- ja Message Broker -ratkaisu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75C02-8E38-429F-AF0B-72ED3C01AA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Varhaisia ratkaisuja (1976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564000" y="1125360"/>
            <a:ext cx="2462040" cy="2016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PDP-11/40 with dual DECtape drives."/>
          <p:cNvPicPr/>
          <p:nvPr/>
        </p:nvPicPr>
        <p:blipFill>
          <a:blip r:embed="rId2"/>
          <a:stretch/>
        </p:blipFill>
        <p:spPr>
          <a:xfrm>
            <a:off x="6372360" y="1052640"/>
            <a:ext cx="2417760" cy="3222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388200" y="457056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DP-11, 16 bitti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324000" y="1071720"/>
            <a:ext cx="2952720" cy="190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3" name=""/>
          <p:cNvGraphicFramePr/>
          <p:nvPr/>
        </p:nvGraphicFramePr>
        <p:xfrm>
          <a:off x="755640" y="1413000"/>
          <a:ext cx="1968480" cy="26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1413000"/>
                    <a:ext cx="196848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5" name="" descr=""/>
          <p:cNvPicPr/>
          <p:nvPr/>
        </p:nvPicPr>
        <p:blipFill>
          <a:blip r:embed="rId6"/>
          <a:stretch/>
        </p:blipFill>
        <p:spPr>
          <a:xfrm>
            <a:off x="395280" y="3213000"/>
            <a:ext cx="5684760" cy="289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F84A3-BCE8-47D1-814F-B89C2BFE0B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omponenttien elinkaar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ärjestelmäintegraatio lisää yksittäisten sovellusten käyttöikä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olehdittava myös rajapintojen elinkaare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93A73-5B88-4542-821A-354E5F0A80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Integraatiossa kolme mahdollisuutt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Tiedon välit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 operatiivisissa sovelluksissa tarvitaan mahdollisimman tosiaikaista tieto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 integraation onnistunut suunnittelu edellyttää tarkkaa prosessikuvaus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Käyttöoikeuksien j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 näissä on tietoturvauhk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 yhteinen järjestelmä kuten HelMet-kirjastojärjestelmä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Resurssien j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esimerkiksi kotitietokoneiden käyttö laskentatehtävissä (harvinaist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DA971-79E5-4F3B-B635-A88C8D94C8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2:06:08Z</dcterms:created>
  <dc:creator>savoneno</dc:creator>
  <dc:description/>
  <dc:language>en-US</dc:language>
  <cp:lastModifiedBy>savoneno</cp:lastModifiedBy>
  <dcterms:modified xsi:type="dcterms:W3CDTF">2007-03-09T08:29:28Z</dcterms:modified>
  <cp:revision>38</cp:revision>
  <dc:subject/>
  <dc:title>Järjestelmäintegraatio</dc:title>
</cp:coreProperties>
</file>