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wmf" ContentType="image/x-wmf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6.jpeg" ContentType="image/jpeg"/>
  <Override PartName="/ppt/media/image27.jpeg" ContentType="image/jpeg"/>
  <Override PartName="/ppt/media/image4.jpeg" ContentType="image/jpeg"/>
  <Override PartName="/ppt/media/image25.jpeg" ContentType="image/jpeg"/>
  <Override PartName="/ppt/media/image26.jpeg" ContentType="image/jpeg"/>
  <Override PartName="/ppt/media/image21.jpeg" ContentType="image/jpeg"/>
  <Override PartName="/ppt/media/image20.jpeg" ContentType="image/jpeg"/>
  <Override PartName="/ppt/media/image18.jpeg" ContentType="image/jpeg"/>
  <Override PartName="/ppt/media/image17.jpeg" ContentType="image/jpeg"/>
  <Override PartName="/ppt/media/image16.wmf" ContentType="image/x-wmf"/>
  <Override PartName="/ppt/media/image14.wmf" ContentType="image/x-wmf"/>
  <Override PartName="/ppt/media/image22.jpeg" ContentType="image/jpeg"/>
  <Override PartName="/ppt/media/image1.jpeg" ContentType="image/jpeg"/>
  <Override PartName="/ppt/media/image3.jpeg" ContentType="image/jpeg"/>
  <Override PartName="/ppt/media/image15.png" ContentType="image/png"/>
  <Override PartName="/ppt/media/image24.jpeg" ContentType="image/jpeg"/>
  <Override PartName="/ppt/media/image23.jpeg" ContentType="image/jpeg"/>
  <Override PartName="/ppt/media/image2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7B8D2-717E-43F5-A714-44B980DEB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98D58-5B7F-4CF3-8D44-4350CA524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C8B40-BC27-4F38-BABC-2D8F57988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E617F-4D86-4698-8233-3A17039C5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61A7F-BC38-414D-A8F3-54696D1FB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37D9E-AE42-4C5F-8EB1-DFE5A7AB8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91775-28AE-4AA1-846B-9B2E4F3D6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6A735-1079-4F1E-B589-9F8CF44B3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AE686-7803-41B5-8DF5-B13FEA60F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032EC-8D13-4048-9725-90441205D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5015F-D8CE-4462-9E40-8788E1D5E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C94DD-54E4-44A1-8C14-B77C6614A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D72A3-31ED-4A5C-A6ED-4F6B8D81B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F8F0C-42C4-483E-8E6E-0D8E5533F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C8BBE-1604-4FF1-B589-E17ED091F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6AEE9-C0D5-439D-8EED-52F9D39B3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655A9-3FEE-4A28-A1BE-7B783D8C6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25501-99A2-4230-A44E-EAD65D090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1787E-1C42-4BB1-921A-4DD2FFA9C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E9A2C-E0BB-4295-96F8-67A681B60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ABB6A-1F53-436F-B21B-A63BE061D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336B1-6685-4662-AE6F-9CABE0B7C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70C82-A537-40C4-A065-378DB7B17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52C3C-C731-4003-A98D-F37892E33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5964F-DBE0-49C3-A3C1-336A9293A2E1}" type="datetime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29307-9D6D-446B-BC35-E24DDF547AF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A47A5-C182-47B9-B9E1-44894C3BE944}" type="datetime">
              <a:rPr b="0" lang="en-US" sz="1000" spc="-1" strike="noStrike">
                <a:solidFill>
                  <a:srgbClr val="ffffff"/>
                </a:solidFill>
                <a:latin typeface="Tahoma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6242E-A72E-40CF-A08D-E62C4A742149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lib.hel.f/" TargetMode="External"/><Relationship Id="rId2" Type="http://schemas.openxmlformats.org/officeDocument/2006/relationships/hyperlink" Target="http://www.kirjastot.fi/" TargetMode="External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citrix.com/index.asp" TargetMode="External"/><Relationship Id="rId2" Type="http://schemas.openxmlformats.org/officeDocument/2006/relationships/hyperlink" Target="http://www.citrix.com/index.asp" TargetMode="External"/><Relationship Id="rId3" Type="http://schemas.openxmlformats.org/officeDocument/2006/relationships/image" Target="../media/image11.png"/><Relationship Id="rId4" Type="http://schemas.openxmlformats.org/officeDocument/2006/relationships/image" Target="../media/image12.jpeg"/><Relationship Id="rId5" Type="http://schemas.openxmlformats.org/officeDocument/2006/relationships/image" Target="../media/image13.wmf"/><Relationship Id="rId6" Type="http://schemas.openxmlformats.org/officeDocument/2006/relationships/image" Target="../media/image14.wmf"/><Relationship Id="rId7" Type="http://schemas.openxmlformats.org/officeDocument/2006/relationships/image" Target="../media/image15.png"/><Relationship Id="rId8" Type="http://schemas.openxmlformats.org/officeDocument/2006/relationships/image" Target="../media/image15.png"/><Relationship Id="rId9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5.pn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Järjestelmäintegraatio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Yleisperiaatteita ja Helsingin kaupunginkirjaston toteutuks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Olli Savonen   Helsingin kaupunginkirjasto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FD4E271B-2639-4059-85A0-8DD17822B5A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Jaettuja julkishallinnon tietokantoja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1" name=""/>
          <p:cNvSpPr/>
          <p:nvPr/>
        </p:nvSpPr>
        <p:spPr>
          <a:xfrm>
            <a:off x="395280" y="1197000"/>
            <a:ext cx="1440000" cy="936720"/>
          </a:xfrm>
          <a:prstGeom prst="rect">
            <a:avLst/>
          </a:prstGeom>
          <a:solidFill>
            <a:srgbClr val="ff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a5c6c"/>
                </a:solidFill>
                <a:latin typeface="Tahoma"/>
              </a:rPr>
              <a:t>Henkilö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a5c6c"/>
                </a:solidFill>
                <a:latin typeface="Tahoma"/>
              </a:rPr>
              <a:t>VR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3492360" y="1628640"/>
            <a:ext cx="1511280" cy="79236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a5c6c"/>
                </a:solidFill>
                <a:latin typeface="Tahoma"/>
              </a:rPr>
              <a:t>Yhtiö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a5c6c"/>
                </a:solidFill>
                <a:latin typeface="Tahoma"/>
              </a:rPr>
              <a:t>YTJ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2124000" y="1916280"/>
            <a:ext cx="122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95280" y="3357720"/>
            <a:ext cx="1368360" cy="792000"/>
          </a:xfrm>
          <a:prstGeom prst="rect">
            <a:avLst/>
          </a:prstGeom>
          <a:solidFill>
            <a:srgbClr val="a3c14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a5c6c"/>
                </a:solidFill>
                <a:latin typeface="Tahoma"/>
              </a:rPr>
              <a:t>Rekisterö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a5c6c"/>
                </a:solidFill>
                <a:latin typeface="Tahoma"/>
              </a:rPr>
              <a:t>ajoneuv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a5c6c"/>
                </a:solidFill>
                <a:latin typeface="Tahoma"/>
              </a:rPr>
              <a:t>AR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2700360" y="3068640"/>
            <a:ext cx="1800360" cy="1079640"/>
          </a:xfrm>
          <a:prstGeom prst="rect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Kiinteistö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KTJ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5076720" y="2924280"/>
            <a:ext cx="1800360" cy="1441440"/>
          </a:xfrm>
          <a:prstGeom prst="rect">
            <a:avLst/>
          </a:prstGeom>
          <a:solidFill>
            <a:srgbClr val="9b998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a5c6c"/>
                </a:solidFill>
                <a:latin typeface="Tahoma"/>
              </a:rPr>
              <a:t>Tontt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a5c6c"/>
                </a:solidFill>
                <a:latin typeface="Tahoma"/>
              </a:rPr>
              <a:t>M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7451640" y="3068640"/>
            <a:ext cx="1692360" cy="10080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rakennuslup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 flipH="1">
            <a:off x="900000" y="2205000"/>
            <a:ext cx="503280" cy="1008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 flipH="1">
            <a:off x="1331640" y="2205000"/>
            <a:ext cx="2087640" cy="1079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1547640" y="2205000"/>
            <a:ext cx="1872000" cy="719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4643280" y="357336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6948360" y="364500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763640" y="5084640"/>
            <a:ext cx="3529080" cy="1008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a5c6c"/>
                </a:solidFill>
                <a:latin typeface="Tahoma"/>
              </a:rPr>
              <a:t>Osoi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a5c6c"/>
                </a:solidFill>
                <a:latin typeface="Tahoma"/>
              </a:rPr>
              <a:t>-muutos päivittyy periaatteess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a5c6c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5a5c6c"/>
                </a:solidFill>
                <a:latin typeface="Tahoma"/>
              </a:rPr>
              <a:t>automaattisesti kaikkial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3564000" y="4292640"/>
            <a:ext cx="0" cy="649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 flipH="1">
            <a:off x="4427280" y="4437000"/>
            <a:ext cx="10810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5003640" y="2565360"/>
            <a:ext cx="863640" cy="287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 flipH="1">
            <a:off x="3850920" y="2492280"/>
            <a:ext cx="360360" cy="432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003040" y="1355760"/>
            <a:ext cx="128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yösuhde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jäs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60520" y="2508120"/>
            <a:ext cx="109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omistaj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5145120" y="2292480"/>
            <a:ext cx="231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Omistaja, vuokraaj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lli Savonen   Helsingin kaupunginkirjasto 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7098C4-594E-4868-87DE-050F66800A9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Tunnustenhallinta integraatiossa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24000" y="1628640"/>
            <a:ext cx="8540640" cy="44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ffffff"/>
                </a:solidFill>
                <a:latin typeface="Tahoma"/>
              </a:rPr>
              <a:t>ADFS eli Active Directory Federation Service;  Microsoft-ympäristössä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ffffff"/>
                </a:solidFill>
                <a:latin typeface="Tahoma"/>
              </a:rPr>
              <a:t>Esimerkiksi Shibboleth Unix-maailmassa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ffffff"/>
                </a:solidFill>
                <a:latin typeface="Tahoma"/>
              </a:rPr>
              <a:t>Yhteensovitus mahdollista ja sen avulla jopa kertakirjautumimen mahdolista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ffffff"/>
                </a:solidFill>
                <a:latin typeface="Tahoma"/>
              </a:rPr>
              <a:t>Nelli on kansallinen tiedonhakuportaali, joka sisältää yliopisto- ja ammattikorkeakoulukirjastojen sekä yleisten kirjastojen hankkimia elektronisia aineistoja (mm. e-lehtiä, e-kirjoja ja viitetietokantoja)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ffffff"/>
                </a:solidFill>
                <a:latin typeface="Tahoma"/>
              </a:rPr>
              <a:t>Nelli-portaalin kirjatumisjärjestelmänä on käytetty LDAPia (Lightweight Directory Access Protocol). Sen käyttö on mahdollista vain niissä yliopistoissa, joissa on LDAP-asiakashakemistorakenne. LDAPin huonona puolena on se, että kriittistä tietoa (salasana) kulkee portaalipalvelimella, vaikkakin salattuna. Shibboleth-tunnistustapa ratkaisee tämän ongelman. Shibboleth-järjestelmässä kirjautumista varten siirrytään kotiorganisaation kirjautumispalvelimelle, jossa käyttäjä tunnistetaan. Tämän jälkeen Nelli-portaalille lähetään tieto siitä, että käyttäjä on tunnistettu. Nellissä asiakas yksilöidään sähköpostiosoitteen alkuosan avulla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ffffff"/>
                </a:solidFill>
                <a:latin typeface="Tahoma"/>
              </a:rPr>
              <a:t>Turvallisen tunnistamisen lisäksi Shibboleth mahdollistaa kertakirjatumisen. Kertaalleen autentikoidun asiakkaan ei tarvitse kirjautua uudelleen siirtyessään palvelusta toiseen, sillä Shibboleth-tekniikalla voidaan välittää tiedot autentikoidusta henkilöstä.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lli Savonen   Helsingin kaupunginkirjasto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A49ECA-7F63-4B40-95FC-1E5EC82FAE2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cc"/>
                </a:solidFill>
                <a:latin typeface="Tahoma"/>
              </a:rPr>
              <a:t>Tunnustenhallinta integraatiossa</a:t>
            </a:r>
            <a:br>
              <a:rPr sz="2800"/>
            </a:br>
            <a:r>
              <a:rPr b="0" lang="fi-FI" sz="2800" spc="-1" strike="noStrike">
                <a:solidFill>
                  <a:srgbClr val="ffffcc"/>
                </a:solidFill>
                <a:latin typeface="Tahoma"/>
              </a:rPr>
              <a:t>-</a:t>
            </a:r>
            <a:r>
              <a:rPr b="0" lang="fi-FI" sz="1800" spc="-1" strike="noStrike">
                <a:solidFill>
                  <a:srgbClr val="ffffcc"/>
                </a:solidFill>
                <a:latin typeface="Tahoma"/>
              </a:rPr>
              <a:t>Helmet-konsortion ulkoistetun hankintajärjestelmän käyttö</a:t>
            </a:r>
            <a:br>
              <a:rPr sz="1800"/>
            </a:br>
            <a:r>
              <a:rPr b="0" lang="fi-FI" sz="1800" spc="-1" strike="noStrike">
                <a:solidFill>
                  <a:srgbClr val="ffffcc"/>
                </a:solidFill>
                <a:latin typeface="Tahoma"/>
              </a:rPr>
              <a:t>-AD integraatio</a:t>
            </a:r>
            <a:endParaRPr b="0" lang="en-US" sz="1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34" name="" descr=""/>
          <p:cNvPicPr/>
          <p:nvPr/>
        </p:nvPicPr>
        <p:blipFill>
          <a:blip r:embed="rId1"/>
          <a:stretch/>
        </p:blipFill>
        <p:spPr>
          <a:xfrm>
            <a:off x="611280" y="1628640"/>
            <a:ext cx="8137440" cy="460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lli Savonen   Helsingin kaupunginkirjasto 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66A973-AF55-4C78-B7B5-A424D1FB511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Toteutuksia Helsingin kaupunginkirjastossa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ffffff"/>
                </a:solidFill>
                <a:latin typeface="Tahoma"/>
              </a:rPr>
              <a:t>Julkaisujärjestelmä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ff"/>
                </a:solidFill>
                <a:latin typeface="Tahoma"/>
              </a:rPr>
              <a:t>Intra – Internet (Web Service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ffffff"/>
                </a:solidFill>
                <a:latin typeface="Tahoma"/>
              </a:rPr>
              <a:t>Asiakastyöasemien ajanvarau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ff"/>
                </a:solidFill>
                <a:latin typeface="Tahoma"/>
              </a:rPr>
              <a:t>Efecte Asset – Asta (XLS)</a:t>
            </a:r>
            <a:r>
              <a:rPr b="0" lang="fi-FI" sz="2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ffffff"/>
                </a:solidFill>
                <a:latin typeface="Tahoma"/>
              </a:rPr>
              <a:t>Kirjautumin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ff"/>
                </a:solidFill>
                <a:latin typeface="Tahoma"/>
              </a:rPr>
              <a:t>Millennium – Asko (SIP 2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ffffff"/>
                </a:solidFill>
                <a:latin typeface="Tahoma"/>
              </a:rPr>
              <a:t>Logistiikk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ffffff"/>
                </a:solidFill>
                <a:latin typeface="Tahoma"/>
              </a:rPr>
              <a:t>Helmet-kirjastojen hankintajärjestelmä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lli Savonen   Helsingin kaupunginkirjasto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F7DF33-AE60-4DB2-A71A-0F023F5DA9A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Julkaisujärjestelmä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ffffff"/>
                </a:solidFill>
                <a:latin typeface="Tahoma"/>
              </a:rPr>
              <a:t>Intranet; Meteor julkaisujärjestelmä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 u="sng">
                <a:solidFill>
                  <a:srgbClr val="a3c145"/>
                </a:solidFill>
                <a:uFillTx/>
                <a:latin typeface="Tahoma"/>
                <a:hlinkClick r:id="rId1"/>
              </a:rPr>
              <a:t>www.lib.hel.f</a:t>
            </a:r>
            <a:r>
              <a:rPr b="0" lang="fi-FI" sz="2000" spc="-1" strike="noStrike">
                <a:solidFill>
                  <a:srgbClr val="ffffff"/>
                </a:solidFill>
                <a:latin typeface="Tahoma"/>
              </a:rPr>
              <a:t> ; -//-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 u="sng">
                <a:solidFill>
                  <a:srgbClr val="a3c145"/>
                </a:solidFill>
                <a:uFillTx/>
                <a:latin typeface="Tahoma"/>
                <a:hlinkClick r:id="rId2"/>
              </a:rPr>
              <a:t>www.kirjastot.fi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fi-FI" sz="1800" spc="-1" strike="noStrike">
                <a:solidFill>
                  <a:srgbClr val="ffffff"/>
                </a:solidFill>
                <a:latin typeface="Tahoma"/>
              </a:rPr>
              <a:t>Meteor pohjautuu täysin rakenteiseen ja määrämuotoiseen sisältöön, joten käytännössä mitä tahansa liittymämallia voidaan käyttää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fi-FI" sz="1800" spc="-1" strike="noStrike">
                <a:solidFill>
                  <a:srgbClr val="ffffff"/>
                </a:solidFill>
                <a:latin typeface="Tahoma"/>
              </a:rPr>
              <a:t>Esimerkiksi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Tahoma"/>
              </a:rPr>
              <a:t>-XML Web Servic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Tahoma"/>
              </a:rPr>
              <a:t>-RSS- ja ATOM- feedi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Tahoma"/>
              </a:rPr>
              <a:t>-Active Directory –liittymä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Tahoma"/>
              </a:rPr>
              <a:t>-Suorat tietokantayhteydet (samassa lähiverkon osassa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Tahoma"/>
              </a:rPr>
              <a:t>-Tiedon tuonti/vienti Microsoft Office-tuotteist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Tahoma"/>
              </a:rPr>
              <a:t>-CSV –tekstitiedosto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Tahoma"/>
              </a:rPr>
              <a:t>-Kertakirjautuminen eri palveluiden välillä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Tahoma"/>
              </a:rPr>
              <a:t>-Räätälöidyt liittymä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lli Savonen   Helsingin kaupunginkirjasto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7AD2A7-6A78-4CF8-A950-B8A65517C8E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fi-FI" sz="2400" spc="-1" strike="noStrike">
                <a:solidFill>
                  <a:srgbClr val="ffffcc"/>
                </a:solidFill>
                <a:latin typeface="Tahoma"/>
              </a:rPr>
              <a:t>CSV-tiedoston muodostaminenExcelillä: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40" name="" descr=""/>
          <p:cNvPicPr/>
          <p:nvPr/>
        </p:nvPicPr>
        <p:blipFill>
          <a:blip r:embed="rId1"/>
          <a:stretch/>
        </p:blipFill>
        <p:spPr>
          <a:xfrm>
            <a:off x="468360" y="1125360"/>
            <a:ext cx="5832360" cy="4953240"/>
          </a:xfrm>
          <a:prstGeom prst="rect">
            <a:avLst/>
          </a:prstGeom>
          <a:ln w="0">
            <a:noFill/>
          </a:ln>
        </p:spPr>
      </p:pic>
      <p:sp>
        <p:nvSpPr>
          <p:cNvPr id="441" name=""/>
          <p:cNvSpPr/>
          <p:nvPr/>
        </p:nvSpPr>
        <p:spPr>
          <a:xfrm>
            <a:off x="6941520" y="2147760"/>
            <a:ext cx="221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ff"/>
                </a:solidFill>
                <a:latin typeface="Tahoma"/>
              </a:rPr>
              <a:t>Tiedos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ff"/>
                </a:solidFill>
                <a:latin typeface="Tahoma"/>
              </a:rPr>
              <a:t>  </a:t>
            </a:r>
            <a:r>
              <a:rPr b="1" lang="en-US" sz="1800" spc="-1" strike="noStrike">
                <a:solidFill>
                  <a:srgbClr val="00ffff"/>
                </a:solidFill>
                <a:latin typeface="Tahoma"/>
              </a:rPr>
              <a:t>Tallenna nimellä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ff"/>
                </a:solidFill>
                <a:latin typeface="Tahoma"/>
              </a:rPr>
              <a:t>     </a:t>
            </a:r>
            <a:r>
              <a:rPr b="1" lang="en-US" sz="1800" spc="-1" strike="noStrike">
                <a:solidFill>
                  <a:srgbClr val="00ffff"/>
                </a:solidFill>
                <a:latin typeface="Tahoma"/>
              </a:rPr>
              <a:t>Tiedostomuo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ff"/>
                </a:solidFill>
                <a:latin typeface="Tahoma"/>
              </a:rPr>
              <a:t>        </a:t>
            </a:r>
            <a:r>
              <a:rPr b="1" lang="en-US" sz="1800" spc="-1" strike="noStrike">
                <a:solidFill>
                  <a:srgbClr val="00ffff"/>
                </a:solidFill>
                <a:latin typeface="Tahoma"/>
              </a:rPr>
              <a:t>CS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lli Savonen   Helsingin kaupunginkirjasto 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FB8005-B42C-41ED-BF2E-47EA9C4A566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cc"/>
                </a:solidFill>
                <a:latin typeface="Tahoma"/>
              </a:rPr>
              <a:t>Esimerkiksi CSV-tiedoston muodostaminenExcelillä: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43" name="" descr=""/>
          <p:cNvPicPr/>
          <p:nvPr/>
        </p:nvPicPr>
        <p:blipFill>
          <a:blip r:embed="rId1"/>
          <a:stretch/>
        </p:blipFill>
        <p:spPr>
          <a:xfrm>
            <a:off x="395280" y="1125360"/>
            <a:ext cx="8253360" cy="4658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lli Savonen   Helsingin kaupunginkirjasto 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FC4922-52FF-4AB1-9F5B-15AF4EF3BAA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Liittymäarkkitehtuuri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45" name="" descr=""/>
          <p:cNvPicPr/>
          <p:nvPr/>
        </p:nvPicPr>
        <p:blipFill>
          <a:blip r:embed="rId1"/>
          <a:stretch/>
        </p:blipFill>
        <p:spPr>
          <a:xfrm>
            <a:off x="1763640" y="1420920"/>
            <a:ext cx="6110280" cy="4730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lli Savonen   Helsingin kaupunginkirjasto 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05E9B6-E4EE-4FF8-8583-F6EF0BBBA0A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597672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000" spc="-1" strike="noStrike">
                <a:solidFill>
                  <a:srgbClr val="ffffcc"/>
                </a:solidFill>
                <a:latin typeface="Tahoma"/>
              </a:rPr>
              <a:t>Asko-asiakastietokone </a:t>
            </a:r>
            <a:r>
              <a:rPr b="0" lang="fi-FI" sz="1200" spc="-1" strike="noStrike">
                <a:solidFill>
                  <a:srgbClr val="ffffcc"/>
                </a:solidFill>
                <a:latin typeface="Tahoma"/>
              </a:rPr>
              <a:t>(www.lib.hel.fi/asko)</a:t>
            </a:r>
            <a:r>
              <a:rPr b="0" lang="fi-FI" sz="40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2000"/>
            </a:br>
            <a:r>
              <a:rPr b="1" lang="fi-FI" sz="2000" spc="-1" strike="noStrike">
                <a:solidFill>
                  <a:srgbClr val="ffffcc"/>
                </a:solidFill>
                <a:latin typeface="Tahoma"/>
              </a:rPr>
              <a:t>- komponentit             </a:t>
            </a:r>
            <a:endParaRPr b="0" lang="en-US" sz="2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324000" y="620280"/>
            <a:ext cx="851832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8" name=""/>
          <p:cNvSpPr/>
          <p:nvPr/>
        </p:nvSpPr>
        <p:spPr>
          <a:xfrm>
            <a:off x="1219320" y="304920"/>
            <a:ext cx="7772400" cy="12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371600" y="1828800"/>
            <a:ext cx="77724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Sans Unicode"/>
              </a:rPr>
              <a:t>MILLENNIU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295280" y="2209680"/>
            <a:ext cx="1143000" cy="990720"/>
          </a:xfrm>
          <a:prstGeom prst="flowChartMagneticDisk">
            <a:avLst/>
          </a:prstGeom>
          <a:solidFill>
            <a:srgbClr val="9966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6705720" y="3581280"/>
            <a:ext cx="2209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ffffcc"/>
                </a:solidFill>
                <a:latin typeface="Lucida Sans Unicode"/>
              </a:rPr>
              <a:t>Customer Workst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848720" y="3962520"/>
            <a:ext cx="1066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ffffff"/>
                </a:solidFill>
                <a:latin typeface="Lucida Sans Unicode"/>
              </a:rPr>
              <a:t>Thin Cli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300720" y="1557360"/>
            <a:ext cx="167652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ffffcc"/>
                </a:solidFill>
                <a:latin typeface="Lucida Sans Unicode"/>
              </a:rPr>
              <a:t>Booking Syste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372360" y="1916280"/>
            <a:ext cx="1143000" cy="457200"/>
          </a:xfrm>
          <a:prstGeom prst="flowChartMagneticDisk">
            <a:avLst/>
          </a:prstGeom>
          <a:solidFill>
            <a:srgbClr val="9966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3733920" y="3886200"/>
            <a:ext cx="838080" cy="685800"/>
          </a:xfrm>
          <a:custGeom>
            <a:avLst/>
            <a:gdLst>
              <a:gd name="textAreaLeft" fmla="*/ 209520 w 838080"/>
              <a:gd name="textAreaRight" fmla="*/ 628560 w 83808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9966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3276720" y="3657600"/>
            <a:ext cx="1447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ffffcc"/>
                </a:solidFill>
                <a:latin typeface="Lucida Sans Unicode"/>
              </a:rPr>
              <a:t>Login Contro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5435640" y="685800"/>
            <a:ext cx="2016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ffffff"/>
                </a:solidFill>
                <a:latin typeface="Lucida Sans Unicode"/>
              </a:rPr>
              <a:t>Customer</a:t>
            </a:r>
            <a:r>
              <a:rPr b="0" i="1" lang="fi-FI" sz="1200" spc="-1" strike="noStrike">
                <a:solidFill>
                  <a:srgbClr val="ffffff"/>
                </a:solidFill>
                <a:latin typeface="Lucida Sans Unicode"/>
              </a:rPr>
              <a:t>	</a:t>
            </a:r>
            <a:r>
              <a:rPr b="0" i="1" lang="fi-FI" sz="1200" spc="-1" strike="noStrike">
                <a:solidFill>
                  <a:srgbClr val="ffffff"/>
                </a:solidFill>
                <a:latin typeface="Lucida Sans Unicode"/>
              </a:rPr>
              <a:t>Libraria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ffffff"/>
                </a:solidFill>
                <a:latin typeface="Lucida Sans Unicode"/>
              </a:rPr>
              <a:t>(https://varaus.lib.hel.fi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6012000" y="1197000"/>
            <a:ext cx="228600" cy="380880"/>
          </a:xfrm>
          <a:custGeom>
            <a:avLst/>
            <a:gdLst>
              <a:gd name="textAreaLeft" fmla="*/ 30600 w 228600"/>
              <a:gd name="textAreaRight" fmla="*/ 198000 w 228600"/>
              <a:gd name="textAreaTop" fmla="*/ 66600 h 380880"/>
              <a:gd name="textAreaBottom" fmla="*/ 276120 h 380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9966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6877080" y="1268280"/>
            <a:ext cx="228600" cy="304920"/>
          </a:xfrm>
          <a:prstGeom prst="upDownArrow">
            <a:avLst>
              <a:gd name="adj1" fmla="val 50000"/>
              <a:gd name="adj2" fmla="val 26553"/>
            </a:avLst>
          </a:prstGeom>
          <a:solidFill>
            <a:srgbClr val="9966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6372360" y="5013360"/>
            <a:ext cx="2438280" cy="11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ffffff"/>
                </a:solidFill>
                <a:latin typeface="Lucida Sans Unicode"/>
              </a:rPr>
              <a:t># card+pin (keyboard entry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ffffff"/>
                </a:solidFill>
                <a:latin typeface="Lucida Sans Unicode"/>
              </a:rPr>
              <a:t># WIM (wireless ID module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ffffff"/>
                </a:solidFill>
                <a:latin typeface="Lucida Sans Unicode"/>
              </a:rPr>
              <a:t># smart car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ffffff"/>
                </a:solidFill>
                <a:latin typeface="Lucida Sans Unicode"/>
              </a:rPr>
              <a:t># USB-flash + p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3733920" y="2438280"/>
            <a:ext cx="2361960" cy="11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ffffff"/>
                </a:solidFill>
                <a:latin typeface="Lucida Sans Unicode"/>
              </a:rPr>
              <a:t>ID for loggin 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ffffff"/>
                </a:solidFill>
                <a:latin typeface="Lucida Sans Unicode"/>
              </a:rPr>
              <a:t># name (email) or</a:t>
            </a:r>
            <a:r>
              <a:rPr b="0" i="1" lang="fi-FI" sz="1200" spc="-1" strike="noStrike">
                <a:solidFill>
                  <a:srgbClr val="ffffff"/>
                </a:solidFill>
                <a:latin typeface="Lucida Sans Unicode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ffffff"/>
                </a:solidFill>
                <a:latin typeface="Lucida Sans Unicode"/>
              </a:rPr>
              <a:t># library card numb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ffffff"/>
                </a:solidFill>
                <a:latin typeface="Lucida Sans Unicode"/>
              </a:rPr>
              <a:t># pin (4 digits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819520" y="4797360"/>
            <a:ext cx="1523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200" spc="-1" strike="noStrike">
                <a:solidFill>
                  <a:srgbClr val="ffffff"/>
                </a:solidFill>
                <a:latin typeface="Lucida Sans Unicode"/>
              </a:rPr>
              <a:t>Meta Fram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743200" y="5257800"/>
            <a:ext cx="990720" cy="380880"/>
          </a:xfrm>
          <a:prstGeom prst="flowChartMagneticDisk">
            <a:avLst/>
          </a:prstGeom>
          <a:solidFill>
            <a:srgbClr val="9966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6781680" y="2743200"/>
            <a:ext cx="2057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ffffcc"/>
                </a:solidFill>
                <a:latin typeface="Lucida Sans Unicode"/>
              </a:rPr>
              <a:t>Efecte Network Inspecto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6858000" y="2971800"/>
            <a:ext cx="457200" cy="304920"/>
          </a:xfrm>
          <a:prstGeom prst="flowChartMagneticDisk">
            <a:avLst/>
          </a:prstGeom>
          <a:solidFill>
            <a:srgbClr val="9966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6948360" y="2565360"/>
            <a:ext cx="152640" cy="228600"/>
          </a:xfrm>
          <a:prstGeom prst="upArrow">
            <a:avLst>
              <a:gd name="adj1" fmla="val 50000"/>
              <a:gd name="adj2" fmla="val 37441"/>
            </a:avLst>
          </a:prstGeom>
          <a:solidFill>
            <a:srgbClr val="9966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2743200" y="3124080"/>
            <a:ext cx="6786720" cy="853920"/>
            <a:chOff x="2743200" y="3124080"/>
            <a:chExt cx="6786720" cy="853920"/>
          </a:xfrm>
        </p:grpSpPr>
        <p:sp>
          <p:nvSpPr>
            <p:cNvPr id="468" name=""/>
            <p:cNvSpPr/>
            <p:nvPr/>
          </p:nvSpPr>
          <p:spPr>
            <a:xfrm>
              <a:off x="2743200" y="3124080"/>
              <a:ext cx="678672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2743200" y="3124080"/>
              <a:ext cx="6786720" cy="85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a3c145"/>
                  </a:solidFill>
                  <a:uFillTx/>
                  <a:latin typeface="Times New Roman"/>
                  <a:hlinkClick r:id="rId1"/>
                </a:rPr>
                <a:t>  </a:t>
              </a:r>
              <a:r>
                <a:rPr b="0" lang="en-US" sz="5000" spc="-1" strike="noStrike">
                  <a:solidFill>
                    <a:srgbClr val="ffffff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                       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470" name="logo" descr="Citrix.com Home Pag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752480" y="4365720"/>
            <a:ext cx="1371600" cy="1006560"/>
          </a:xfrm>
          <a:prstGeom prst="rect">
            <a:avLst/>
          </a:prstGeom>
          <a:ln w="0">
            <a:noFill/>
          </a:ln>
        </p:spPr>
      </p:pic>
      <p:sp>
        <p:nvSpPr>
          <p:cNvPr id="471" name=""/>
          <p:cNvSpPr/>
          <p:nvPr/>
        </p:nvSpPr>
        <p:spPr>
          <a:xfrm>
            <a:off x="2575080" y="2490840"/>
            <a:ext cx="108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ffffff"/>
                </a:solidFill>
                <a:latin typeface="Lucida Sans Unicode"/>
              </a:rPr>
              <a:t>Sip 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438280" y="2895480"/>
            <a:ext cx="990720" cy="762120"/>
          </a:xfrm>
          <a:prstGeom prst="line">
            <a:avLst/>
          </a:prstGeom>
          <a:ln cap="sq" w="12600">
            <a:solidFill>
              <a:srgbClr val="ffffff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 flipH="1">
            <a:off x="4572000" y="2438280"/>
            <a:ext cx="1828800" cy="1524240"/>
          </a:xfrm>
          <a:prstGeom prst="line">
            <a:avLst/>
          </a:prstGeom>
          <a:ln cap="sq" w="12600">
            <a:solidFill>
              <a:srgbClr val="ffffff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4724280" y="4267080"/>
            <a:ext cx="1600200" cy="152640"/>
          </a:xfrm>
          <a:prstGeom prst="line">
            <a:avLst/>
          </a:prstGeom>
          <a:ln cap="sq" w="12600">
            <a:solidFill>
              <a:srgbClr val="ffffff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5" name=""/>
          <p:cNvGrpSpPr/>
          <p:nvPr/>
        </p:nvGrpSpPr>
        <p:grpSpPr>
          <a:xfrm>
            <a:off x="4057560" y="3006720"/>
            <a:ext cx="9144000" cy="360"/>
            <a:chOff x="4057560" y="3006720"/>
            <a:chExt cx="9144000" cy="360"/>
          </a:xfrm>
        </p:grpSpPr>
        <p:sp>
          <p:nvSpPr>
            <p:cNvPr id="476" name=""/>
            <p:cNvSpPr/>
            <p:nvPr/>
          </p:nvSpPr>
          <p:spPr>
            <a:xfrm>
              <a:off x="4057560" y="3006720"/>
              <a:ext cx="534024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4057560" y="300672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478" name="3125ko90x74" descr=""/>
          <p:cNvPicPr/>
          <p:nvPr/>
        </p:nvPicPr>
        <p:blipFill>
          <a:blip r:embed="rId4"/>
          <a:stretch/>
        </p:blipFill>
        <p:spPr>
          <a:xfrm>
            <a:off x="6781680" y="3886200"/>
            <a:ext cx="1028880" cy="846000"/>
          </a:xfrm>
          <a:prstGeom prst="rect">
            <a:avLst/>
          </a:prstGeom>
          <a:ln w="0">
            <a:noFill/>
          </a:ln>
        </p:spPr>
      </p:pic>
      <p:sp>
        <p:nvSpPr>
          <p:cNvPr id="479" name=""/>
          <p:cNvSpPr/>
          <p:nvPr/>
        </p:nvSpPr>
        <p:spPr>
          <a:xfrm flipH="1">
            <a:off x="3733560" y="4572000"/>
            <a:ext cx="228600" cy="304920"/>
          </a:xfrm>
          <a:prstGeom prst="line">
            <a:avLst/>
          </a:prstGeom>
          <a:ln cap="sq" w="12600">
            <a:solidFill>
              <a:srgbClr val="ffffff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3937320" y="4648320"/>
            <a:ext cx="1230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800" spc="-1" strike="noStrike">
                <a:solidFill>
                  <a:srgbClr val="ffffff"/>
                </a:solidFill>
                <a:latin typeface="Lucida Sans Unicode"/>
              </a:rPr>
              <a:t>Secure Access Manager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7451640" y="2990880"/>
            <a:ext cx="1441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800" spc="-1" strike="noStrike">
                <a:solidFill>
                  <a:srgbClr val="ffffff"/>
                </a:solidFill>
                <a:latin typeface="Lucida Sans Unicode"/>
              </a:rPr>
              <a:t>HW &amp; SW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800" spc="-1" strike="noStrike">
                <a:solidFill>
                  <a:srgbClr val="ffffff"/>
                </a:solidFill>
                <a:latin typeface="Lucida Sans Unicode"/>
              </a:rPr>
              <a:t>Information integration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800" spc="-1" strike="noStrike">
                <a:solidFill>
                  <a:srgbClr val="ffffff"/>
                </a:solidFill>
                <a:latin typeface="Lucida Sans Unicode"/>
              </a:rPr>
              <a:t>(daily updating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7696080" y="1557360"/>
            <a:ext cx="1052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800" spc="-1" strike="noStrike">
                <a:solidFill>
                  <a:srgbClr val="ffffff"/>
                </a:solidFill>
                <a:latin typeface="Lucida Sans Unicode"/>
              </a:rPr>
              <a:t>Open hours from Web Site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005320" y="4264200"/>
            <a:ext cx="572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Lucida Sans Unicode"/>
              </a:rPr>
              <a:t>PC (XP)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772400" y="1828800"/>
            <a:ext cx="762120" cy="304920"/>
          </a:xfrm>
          <a:prstGeom prst="can">
            <a:avLst>
              <a:gd name="adj" fmla="val 25000"/>
            </a:avLst>
          </a:prstGeom>
          <a:solidFill>
            <a:srgbClr val="9966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543800" y="1981080"/>
            <a:ext cx="152280" cy="76320"/>
          </a:xfrm>
          <a:prstGeom prst="leftRightArrow">
            <a:avLst>
              <a:gd name="adj1" fmla="val 50000"/>
              <a:gd name="adj2" fmla="val 39721"/>
            </a:avLst>
          </a:prstGeom>
          <a:solidFill>
            <a:srgbClr val="9966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7772400" y="838080"/>
            <a:ext cx="304920" cy="228600"/>
          </a:xfrm>
          <a:prstGeom prst="flowChartMagneticDisk">
            <a:avLst/>
          </a:prstGeom>
          <a:solidFill>
            <a:srgbClr val="9966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8069040" y="835200"/>
            <a:ext cx="734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000" spc="-1" strike="noStrike">
                <a:solidFill>
                  <a:srgbClr val="ffffff"/>
                </a:solidFill>
                <a:latin typeface="Lucida Sans Unicode"/>
              </a:rPr>
              <a:t>Activ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000" spc="-1" strike="noStrike">
                <a:solidFill>
                  <a:srgbClr val="ffffff"/>
                </a:solidFill>
                <a:latin typeface="Lucida Sans Unicode"/>
              </a:rPr>
              <a:t>Director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2959200" y="5473800"/>
            <a:ext cx="990360" cy="380880"/>
          </a:xfrm>
          <a:prstGeom prst="flowChartMagneticDisk">
            <a:avLst/>
          </a:prstGeom>
          <a:solidFill>
            <a:srgbClr val="9966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3174840" y="5689440"/>
            <a:ext cx="990720" cy="381240"/>
          </a:xfrm>
          <a:prstGeom prst="flowChartMagneticDisk">
            <a:avLst/>
          </a:prstGeom>
          <a:solidFill>
            <a:srgbClr val="9966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3390840" y="5905440"/>
            <a:ext cx="990720" cy="381240"/>
          </a:xfrm>
          <a:prstGeom prst="flowChartMagneticDisk">
            <a:avLst/>
          </a:prstGeom>
          <a:solidFill>
            <a:srgbClr val="9966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1" name="" descr=""/>
          <p:cNvPicPr/>
          <p:nvPr/>
        </p:nvPicPr>
        <p:blipFill>
          <a:blip r:embed="rId5"/>
          <a:stretch/>
        </p:blipFill>
        <p:spPr>
          <a:xfrm>
            <a:off x="3740040" y="1125360"/>
            <a:ext cx="1041480" cy="1405080"/>
          </a:xfrm>
          <a:prstGeom prst="rect">
            <a:avLst/>
          </a:prstGeom>
          <a:ln w="0">
            <a:noFill/>
          </a:ln>
        </p:spPr>
      </p:pic>
      <p:pic>
        <p:nvPicPr>
          <p:cNvPr id="492" name="" descr=""/>
          <p:cNvPicPr/>
          <p:nvPr/>
        </p:nvPicPr>
        <p:blipFill>
          <a:blip r:embed="rId6"/>
          <a:stretch/>
        </p:blipFill>
        <p:spPr>
          <a:xfrm>
            <a:off x="6659640" y="138240"/>
            <a:ext cx="541440" cy="523800"/>
          </a:xfrm>
          <a:prstGeom prst="rect">
            <a:avLst/>
          </a:prstGeom>
          <a:ln w="0">
            <a:noFill/>
          </a:ln>
        </p:spPr>
      </p:pic>
      <p:pic>
        <p:nvPicPr>
          <p:cNvPr id="493" name="" descr=""/>
          <p:cNvPicPr/>
          <p:nvPr/>
        </p:nvPicPr>
        <p:blipFill>
          <a:blip r:embed="rId7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494" name="" descr=""/>
          <p:cNvPicPr/>
          <p:nvPr/>
        </p:nvPicPr>
        <p:blipFill>
          <a:blip r:embed="rId8"/>
          <a:stretch/>
        </p:blipFill>
        <p:spPr>
          <a:xfrm>
            <a:off x="5737320" y="28728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lli Savonen   Helsingin kaupunginkirjasto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902BDF-2E0A-41C4-B24F-15FA80C0346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Kahden järjestelmän integraatiototeutus</a:t>
            </a:r>
            <a:br>
              <a:rPr sz="2800"/>
            </a:b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- </a:t>
            </a:r>
            <a:r>
              <a:rPr b="0" lang="en-US" sz="1800" spc="-1" strike="noStrike">
                <a:solidFill>
                  <a:srgbClr val="ffffcc"/>
                </a:solidFill>
                <a:latin typeface="Tahoma"/>
              </a:rPr>
              <a:t>Tietokantapohjainen integraatio</a:t>
            </a:r>
            <a:endParaRPr b="0" lang="en-US" sz="1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301320" y="1600200"/>
            <a:ext cx="8015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ff"/>
                </a:solidFill>
                <a:latin typeface="Tahoma"/>
              </a:rPr>
              <a:t>Efecte Asset</a:t>
            </a:r>
            <a:r>
              <a:rPr b="0" lang="fi-FI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fi-FI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fi-FI" sz="2800" spc="-1" strike="noStrike">
                <a:solidFill>
                  <a:srgbClr val="ffffff"/>
                </a:solidFill>
                <a:latin typeface="Tahoma"/>
              </a:rPr>
              <a:t>               Asta ajanvarau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497" name=""/>
          <p:cNvGrpSpPr/>
          <p:nvPr/>
        </p:nvGrpSpPr>
        <p:grpSpPr>
          <a:xfrm>
            <a:off x="3411000" y="2090160"/>
            <a:ext cx="1674000" cy="1363680"/>
            <a:chOff x="3411000" y="2090160"/>
            <a:chExt cx="1674000" cy="1363680"/>
          </a:xfrm>
        </p:grpSpPr>
        <p:sp>
          <p:nvSpPr>
            <p:cNvPr id="498" name="_s32776"/>
            <p:cNvSpPr/>
            <p:nvPr/>
          </p:nvSpPr>
          <p:spPr>
            <a:xfrm>
              <a:off x="3719880" y="2090160"/>
              <a:ext cx="1056600" cy="939240"/>
            </a:xfrm>
            <a:custGeom>
              <a:avLst/>
              <a:gdLst>
                <a:gd name="textAreaLeft" fmla="*/ 0 w 1056600"/>
                <a:gd name="textAreaRight" fmla="*/ 1056960 w 1056600"/>
                <a:gd name="textAreaTop" fmla="*/ 0 h 939240"/>
                <a:gd name="textAreaBottom" fmla="*/ 939600 h 939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99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9" name="_s32777"/>
            <p:cNvSpPr/>
            <p:nvPr/>
          </p:nvSpPr>
          <p:spPr>
            <a:xfrm rot="7200000">
              <a:off x="3922560" y="2253960"/>
              <a:ext cx="939600" cy="1056600"/>
            </a:xfrm>
            <a:custGeom>
              <a:avLst/>
              <a:gdLst>
                <a:gd name="textAreaLeft" fmla="*/ 0 w 939600"/>
                <a:gd name="textAreaRight" fmla="*/ 939960 w 939600"/>
                <a:gd name="textAreaTop" fmla="*/ 0 h 1056600"/>
                <a:gd name="textAreaBottom" fmla="*/ 1056960 h 1056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99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0" name="_s32779"/>
            <p:cNvSpPr/>
            <p:nvPr/>
          </p:nvSpPr>
          <p:spPr>
            <a:xfrm rot="14400000">
              <a:off x="3633480" y="2254320"/>
              <a:ext cx="939600" cy="1056600"/>
            </a:xfrm>
            <a:custGeom>
              <a:avLst/>
              <a:gdLst>
                <a:gd name="textAreaLeft" fmla="*/ 0 w 939600"/>
                <a:gd name="textAreaRight" fmla="*/ 939960 w 939600"/>
                <a:gd name="textAreaTop" fmla="*/ 0 h 1056600"/>
                <a:gd name="textAreaBottom" fmla="*/ 1056960 h 1056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99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1" name="_s32774"/>
            <p:cNvSpPr/>
            <p:nvPr/>
          </p:nvSpPr>
          <p:spPr>
            <a:xfrm>
              <a:off x="4537440" y="2261880"/>
              <a:ext cx="423720" cy="37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2" name="_s32775"/>
            <p:cNvSpPr/>
            <p:nvPr/>
          </p:nvSpPr>
          <p:spPr>
            <a:xfrm>
              <a:off x="4036680" y="3034800"/>
              <a:ext cx="423720" cy="37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3" name="_s32778"/>
            <p:cNvSpPr/>
            <p:nvPr/>
          </p:nvSpPr>
          <p:spPr>
            <a:xfrm>
              <a:off x="3534480" y="2262600"/>
              <a:ext cx="423720" cy="37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504" name="" descr=""/>
          <p:cNvPicPr/>
          <p:nvPr/>
        </p:nvPicPr>
        <p:blipFill>
          <a:blip r:embed="rId1"/>
          <a:stretch/>
        </p:blipFill>
        <p:spPr>
          <a:xfrm>
            <a:off x="468360" y="2205000"/>
            <a:ext cx="1722240" cy="1440000"/>
          </a:xfrm>
          <a:prstGeom prst="rect">
            <a:avLst/>
          </a:prstGeom>
          <a:ln w="0">
            <a:noFill/>
          </a:ln>
        </p:spPr>
      </p:pic>
      <p:pic>
        <p:nvPicPr>
          <p:cNvPr id="505" name="" descr=""/>
          <p:cNvPicPr/>
          <p:nvPr/>
        </p:nvPicPr>
        <p:blipFill>
          <a:blip r:embed="rId2"/>
          <a:stretch/>
        </p:blipFill>
        <p:spPr>
          <a:xfrm>
            <a:off x="6084720" y="2133720"/>
            <a:ext cx="1722600" cy="1511280"/>
          </a:xfrm>
          <a:prstGeom prst="rect">
            <a:avLst/>
          </a:prstGeom>
          <a:ln w="0">
            <a:noFill/>
          </a:ln>
        </p:spPr>
      </p:pic>
      <p:sp>
        <p:nvSpPr>
          <p:cNvPr id="506" name=""/>
          <p:cNvSpPr/>
          <p:nvPr/>
        </p:nvSpPr>
        <p:spPr>
          <a:xfrm>
            <a:off x="0" y="386064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Tahoma"/>
              </a:rPr>
              <a:t>-skannaa asiakaskoneet (350)  kerran päivässä ja kirjoittaa tietokantatauluun tilante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Tahoma"/>
              </a:rPr>
              <a:t>-virkailija täydentää esimerkiksi jonotuskone/varauskonetiedon, lisälaitteet kuten skanneri, käyttöaik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4716360" y="3789360"/>
            <a:ext cx="4427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Tahoma"/>
              </a:rPr>
              <a:t>-virkailija ylläpitää tilatieto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Tahoma"/>
              </a:rPr>
              <a:t>(kunnossa tai e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Tahoma"/>
              </a:rPr>
              <a:t>-järjestelmä kirjautuu ajastetusti kerran päivässä Assettiin ja noutaa päivitetyn tilanteen ja palauttaa laitteiden tilatiedo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Tahoma"/>
              </a:rPr>
              <a:t>-toimintaa voidaan jatkaa ’vanhalla’ tilanteella, mikäli haku ei onnist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lli Savonen   Helsingin kaupunginkirjasto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CD86C5-57CB-4FF5-B5F7-FD8D78D16CD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Allekirjoittaneen tausta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uK, tietotekniikkapäällikkö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8 v. yksityisen palveluksess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kia 1973-1979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ietonauha 1980-198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aukomarkkinat 1987-199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elsingin kaupunki 14 v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akennusvirasto 3 v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aupunginkirjasto 11 v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lli Savonen   Helsingin kaupunginkirjasto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E485F6-928B-41B2-B00E-608006FD36E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cc"/>
                </a:solidFill>
                <a:latin typeface="Tahoma"/>
              </a:rPr>
              <a:t>Efecte Asset- laitetiedot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509" name="" descr=""/>
          <p:cNvPicPr/>
          <p:nvPr/>
        </p:nvPicPr>
        <p:blipFill>
          <a:blip r:embed="rId1"/>
          <a:stretch/>
        </p:blipFill>
        <p:spPr>
          <a:xfrm>
            <a:off x="1576440" y="1752480"/>
            <a:ext cx="5991120" cy="3353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lli Savonen   Helsingin kaupunginkirjasto 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0B06EC-5437-4A0E-96F1-DA9CCF1DAA7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Asta - virkailijavaraus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511" name="" descr=""/>
          <p:cNvPicPr/>
          <p:nvPr/>
        </p:nvPicPr>
        <p:blipFill>
          <a:blip r:embed="rId1"/>
          <a:stretch/>
        </p:blipFill>
        <p:spPr>
          <a:xfrm>
            <a:off x="2847960" y="1395360"/>
            <a:ext cx="3448080" cy="4067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lli Savonen   Helsingin kaupunginkirjasto 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6FDE66-B3DD-4429-9833-7C5B8D4F1E5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Logistiikkaintegrointi</a:t>
            </a: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alautusautomaatti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14" name="" descr=""/>
          <p:cNvPicPr/>
          <p:nvPr/>
        </p:nvPicPr>
        <p:blipFill>
          <a:blip r:embed="rId1"/>
          <a:stretch/>
        </p:blipFill>
        <p:spPr>
          <a:xfrm>
            <a:off x="250920" y="2205000"/>
            <a:ext cx="8181720" cy="4435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lli Savonen   Helsingin kaupunginkirjasto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AF7E1A-D4C9-4A80-9BB5-3BD41C6670A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Logistiikkaintegrointi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680" y="980640"/>
            <a:ext cx="85406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ffffff"/>
                </a:solidFill>
                <a:latin typeface="Tahoma"/>
              </a:rPr>
              <a:t>Palautettu aineisto jakautuu pääsäntöisesti kahteen: kyseiseen kirjastoon jäävään ja jatkokuljetista vaativaan (varatut ja muiden kirjastojen niteet)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17" name="" descr=""/>
          <p:cNvPicPr/>
          <p:nvPr/>
        </p:nvPicPr>
        <p:blipFill>
          <a:blip r:embed="rId1"/>
          <a:stretch/>
        </p:blipFill>
        <p:spPr>
          <a:xfrm>
            <a:off x="1332000" y="1989000"/>
            <a:ext cx="6265800" cy="4052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lli Savonen   Helsingin kaupunginkirjasto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B56D65-268E-41C0-889A-9EE32F2865B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301320" y="228240"/>
            <a:ext cx="383868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Logistiikkaintegrointi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301680" y="836280"/>
            <a:ext cx="854064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ajittelij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8000 nidettä per päivä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20" name="" descr=""/>
          <p:cNvPicPr/>
          <p:nvPr/>
        </p:nvPicPr>
        <p:blipFill>
          <a:blip r:embed="rId1"/>
          <a:stretch/>
        </p:blipFill>
        <p:spPr>
          <a:xfrm>
            <a:off x="3924360" y="0"/>
            <a:ext cx="5078520" cy="6138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lli Savonen   Helsingin kaupunginkirjasto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8C4B0A-A621-4136-BEF3-1A734BDF50C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3765600" cy="8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Logistiikkaintegrointi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301320" y="907920"/>
            <a:ext cx="585468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ffffff"/>
                </a:solidFill>
                <a:latin typeface="Tahoma"/>
              </a:rPr>
              <a:t>Ohjaustietokon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ffffff"/>
                </a:solidFill>
                <a:latin typeface="Tahoma"/>
              </a:rPr>
              <a:t>PC kytkettynä lajittelijaan, jossa erityisominaisuutena 2 kpl Com-portteja. Com1 lajittelijan logiikkayksikkö ja Com2 lajittelijan Sick laserlukijat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23" name="" descr=""/>
          <p:cNvPicPr/>
          <p:nvPr/>
        </p:nvPicPr>
        <p:blipFill>
          <a:blip r:embed="rId1"/>
          <a:stretch/>
        </p:blipFill>
        <p:spPr>
          <a:xfrm>
            <a:off x="1908000" y="1844640"/>
            <a:ext cx="6409080" cy="4390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lli Savonen   Helsingin kaupunginkirjasto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3D69DC-5D93-41B7-843A-7B073742C13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4270320" cy="6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Logistiikkaintegrointi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680" y="836640"/>
            <a:ext cx="25416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ff"/>
                </a:solidFill>
                <a:latin typeface="Tahoma"/>
              </a:rPr>
              <a:t>Skannau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26" name="" descr=""/>
          <p:cNvPicPr/>
          <p:nvPr/>
        </p:nvPicPr>
        <p:blipFill>
          <a:blip r:embed="rId1"/>
          <a:stretch/>
        </p:blipFill>
        <p:spPr>
          <a:xfrm>
            <a:off x="3780000" y="17640"/>
            <a:ext cx="5130720" cy="684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lli Savonen   Helsingin kaupunginkirjasto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96FE78-F83D-4E42-9B5A-0D2CC725BBB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3478320" cy="53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Logistiikkaintegrointi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23640" y="765000"/>
            <a:ext cx="369396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ajittelu laatikoihi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29" name="" descr=""/>
          <p:cNvPicPr/>
          <p:nvPr/>
        </p:nvPicPr>
        <p:blipFill>
          <a:blip r:embed="rId1"/>
          <a:stretch/>
        </p:blipFill>
        <p:spPr>
          <a:xfrm>
            <a:off x="2195640" y="1268280"/>
            <a:ext cx="6467400" cy="484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lli Savonen   Helsingin kaupunginkirjasto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65AD99-75B9-43A3-B00E-BD99B893C65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Logistiikkaintegrointi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000" spc="-1" strike="noStrike">
                <a:solidFill>
                  <a:srgbClr val="ffffff"/>
                </a:solidFill>
                <a:latin typeface="Tahoma"/>
              </a:rPr>
              <a:t>Tekninen toteutus tietojen noutamiseen Millenniumist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000" spc="-1" strike="noStrike">
                <a:solidFill>
                  <a:srgbClr val="ffffff"/>
                </a:solidFill>
                <a:latin typeface="Tahoma"/>
              </a:rPr>
              <a:t>Tiedot haetaan ohjaustyöasemassa käynnistettävällä SmartTerm 7-emulaattori- makrolla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000" spc="-1" strike="noStrike">
                <a:solidFill>
                  <a:srgbClr val="ffffff"/>
                </a:solidFill>
                <a:latin typeface="Tahoma"/>
              </a:rPr>
              <a:t>Liittymä on merkkipohjainen Innopac ja makroon on nauhoitettu tarvittavat komenno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000" spc="-1" strike="noStrike">
                <a:solidFill>
                  <a:srgbClr val="ffffff"/>
                </a:solidFill>
                <a:latin typeface="Tahoma"/>
              </a:rPr>
              <a:t>Ajo ajetaan normaalin Create List toiminnon avull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000" spc="-1" strike="noStrike">
                <a:solidFill>
                  <a:srgbClr val="ffffff"/>
                </a:solidFill>
                <a:latin typeface="Tahoma"/>
              </a:rPr>
              <a:t>Listauksesta muodostetaan tiedosto joka tuodaan kirjaston verkossa sijaitsevalle FTP-palvelimelle käyttäjän pyynnöllä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000" spc="-1" strike="noStrike">
                <a:solidFill>
                  <a:srgbClr val="ffffff"/>
                </a:solidFill>
                <a:latin typeface="Tahoma"/>
              </a:rPr>
              <a:t>Millenniumilta ei voi noutaa dataa vaan data tulee lähettää Millenniumin omalla FTP -clientilla ulospäin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lli Savonen   Helsingin kaupunginkirjasto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36A3A5-775E-4AA3-88C5-B8534EB1F77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6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Hankintajärjestelmän integrointi laskutusjärjestelmään</a:t>
            </a:r>
            <a:endParaRPr b="0" lang="en-US" sz="2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324000" y="1125360"/>
            <a:ext cx="8540640" cy="50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Tahoma"/>
              </a:rPr>
              <a:t>Hankintajärjestelmä tuottaa tilauksia toimittajalle, jolta lähtee sähköinen lasku tilaajan laskutusjärjestelmään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Tahoma"/>
              </a:rPr>
              <a:t>&lt;Finvoice&gt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fi-FI" sz="1800" spc="-1" strike="noStrike">
                <a:solidFill>
                  <a:srgbClr val="ffffff"/>
                </a:solidFill>
                <a:latin typeface="Tahoma"/>
              </a:rPr>
              <a:t>&lt;SellerPartyIdentifier&gt;[Myyjäkortistossa oleva sellerpartyidentifier myyjän tunnistamiseen]&lt;/SellerPartyIdentifier&gt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fi-FI" sz="1800" spc="-1" strike="noStrike">
                <a:solidFill>
                  <a:srgbClr val="ffffff"/>
                </a:solidFill>
                <a:latin typeface="Tahoma"/>
              </a:rPr>
              <a:t>&lt;SellerOrganisationName&gt;[Myyjän nimi]&lt;/SellerOrganisationName&gt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fi-FI" sz="1800" spc="-1" strike="noStrike">
                <a:solidFill>
                  <a:srgbClr val="ffffff"/>
                </a:solidFill>
                <a:latin typeface="Tahoma"/>
              </a:rPr>
              <a:t>&lt;SellerContactPersonName&gt;[Myyjän lisänimi]&lt;/SellerContactPersonName&gt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fi-FI" sz="1800" spc="-1" strike="noStrike">
                <a:solidFill>
                  <a:srgbClr val="ffffff"/>
                </a:solidFill>
                <a:latin typeface="Tahoma"/>
              </a:rPr>
              <a:t>&lt;SellerStreetName&gt;[Myyjän katuosoite]&lt;/SellerStreetName&gt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fi-FI" sz="1800" spc="-1" strike="noStrike">
                <a:solidFill>
                  <a:srgbClr val="ffffff"/>
                </a:solidFill>
                <a:latin typeface="Tahoma"/>
              </a:rPr>
              <a:t>&lt;SellerPostCodeIdentifier&gt;[Myyjän postiosoite]&lt;/SellerPostCodeIdentifier&gt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fi-FI" sz="1800" spc="-1" strike="noStrike">
                <a:solidFill>
                  <a:srgbClr val="ffffff"/>
                </a:solidFill>
                <a:latin typeface="Tahoma"/>
              </a:rPr>
              <a:t>&lt;SellerTownName&gt;[Myyjän kaupunki]&lt;/SellerTownName&gt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fi-FI" sz="1800" spc="-1" strike="noStrike">
                <a:solidFill>
                  <a:srgbClr val="ffffff"/>
                </a:solidFill>
                <a:latin typeface="Tahoma"/>
              </a:rPr>
              <a:t>&lt;SellerPhoneNumberIdentifier&gt;[Myyjän puhelin]&lt;/SellerPhoneNumberIdentifier&gt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fi-FI" sz="1800" spc="-1" strike="noStrike">
                <a:solidFill>
                  <a:srgbClr val="ffffff"/>
                </a:solidFill>
                <a:latin typeface="Tahoma"/>
              </a:rPr>
              <a:t>&lt;SellerFaxNumber&gt;[Myyjän telefax]&lt;/SellerFaxNumber&gt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fi-FI" sz="1800" spc="-1" strike="noStrike">
                <a:solidFill>
                  <a:srgbClr val="ffffff"/>
                </a:solidFill>
                <a:latin typeface="Tahoma"/>
              </a:rPr>
              <a:t>&lt;SellerEmailaddressIdentifier&gt;[Myyjän sähköposti]&lt;/SellerEmailaddressIdentifier&gt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fi-FI" sz="1800" spc="-1" strike="noStrike">
                <a:solidFill>
                  <a:srgbClr val="ffffff"/>
                </a:solidFill>
                <a:latin typeface="Tahoma"/>
              </a:rPr>
              <a:t>&lt;SellerWebaddressIdentifier&gt;[Myyjän kotisivujen osoite]&lt;/SellerWebaddressIdentifier&gt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lli Savonen   Helsingin kaupunginkirjasto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04BFD2-062E-4C3A-9BEF-F63935BA093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Harrastukse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89" name="" descr=""/>
          <p:cNvPicPr/>
          <p:nvPr/>
        </p:nvPicPr>
        <p:blipFill>
          <a:blip r:embed="rId1"/>
          <a:stretch/>
        </p:blipFill>
        <p:spPr>
          <a:xfrm>
            <a:off x="914400" y="1106640"/>
            <a:ext cx="6753240" cy="5065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lli Savonen   Helsingin kaupunginkirjasto 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78B12D-AE00-4FE1-BDCB-8926CE073BC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6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Hankintajärjestelmän integrointi laskutusjärjestelmään</a:t>
            </a:r>
            <a:endParaRPr b="0" lang="en-US" sz="2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24000" y="836640"/>
            <a:ext cx="854064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000" spc="-1" strike="noStrike">
                <a:solidFill>
                  <a:srgbClr val="ffffff"/>
                </a:solidFill>
                <a:latin typeface="Tahoma"/>
              </a:rPr>
              <a:t>Hankintajärjestelmä tuottaa tilauksia toimittajalle, jolta lähtee sähköinen lasku tilaajan laskutusjärjestelmään: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8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&lt;NormalProposedAccountIdentifier&gt;[kirjanpitotili]&lt;/NormalProposedAccountIdentifier&gt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&lt;AccountDimensionText&gt;[kirjanpidon kustannuspaikka]&lt;/AccountDimensionText&gt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&lt;invoicerow&gt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&lt;RowShortProposedAccountIdentifier&gt;[tuoterivin ostoreskontran kustannuspaikka]&lt;/RowShortProposedAccountIdentifier&gt; 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&lt;RowNormalProposedAccountIdentifier&gt;[tuoterivin kirjanpitotili]&lt;/RowNormalProposedAccountIdentifier&gt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&lt;RowAccountDimensionText&gt;[kirjanpidon kustannuspaikka]&lt;/RowAccountDimensionText&gt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&lt;ArticleName&gt;[tiliöintiselite]&lt;/ArticleName&gt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&lt;RowVatRatePercent&gt;[verokanta]&lt;/RowVatRatePercent&gt;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&lt;RowVatAmount&gt;[alv euroa]&lt;/RowVatAmount&gt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&lt;RowVatExcludedAmount&gt;[veroton rivisumma]&lt;/RowVatExcludedAmount&gt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&lt;RowAmount&gt;[rivisumma sisältäen alv:n]&lt;/RowAmount&gt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&lt;/invoicerow&gt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fi-FI" sz="1400" spc="-1" strike="noStrike">
                <a:solidFill>
                  <a:srgbClr val="ffffff"/>
                </a:solidFill>
                <a:latin typeface="Tahoma"/>
              </a:rPr>
              <a:t>&lt;invoicerow&gt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Tahoma"/>
              </a:rPr>
              <a:t>             </a:t>
            </a:r>
            <a:r>
              <a:rPr b="0" lang="fi-FI" sz="1400" spc="-1" strike="noStrike">
                <a:solidFill>
                  <a:srgbClr val="ffffff"/>
                </a:solidFill>
                <a:latin typeface="Tahoma"/>
              </a:rPr>
              <a:t>... seuraava laskurivi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fi-FI" sz="1400" spc="-1" strike="noStrike">
                <a:solidFill>
                  <a:srgbClr val="ffffff"/>
                </a:solidFill>
                <a:latin typeface="Tahoma"/>
              </a:rPr>
              <a:t>&lt;/invoicerow&gt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fi-FI" sz="1400" spc="-1" strike="noStrike">
                <a:solidFill>
                  <a:srgbClr val="ffffff"/>
                </a:solidFill>
                <a:latin typeface="Tahoma"/>
              </a:rPr>
              <a:t>&lt;invoicerow&gt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Tahoma"/>
              </a:rPr>
              <a:t>             </a:t>
            </a:r>
            <a:r>
              <a:rPr b="0" lang="fi-FI" sz="1400" spc="-1" strike="noStrike">
                <a:solidFill>
                  <a:srgbClr val="ffffff"/>
                </a:solidFill>
                <a:latin typeface="Tahoma"/>
              </a:rPr>
              <a:t>... seuraava laskurivi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&lt;/invoicerow&gt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&lt;invoicerow&gt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             </a:t>
            </a: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... seuraava laskurivi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&lt;/invoicerow&gt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&lt;/Finvoice&gt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Tahoma"/>
              </a:rPr>
              <a:t>&lt;Finvoice&gt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fi-FI" sz="1400" spc="-1" strike="noStrike">
                <a:solidFill>
                  <a:srgbClr val="ffffff"/>
                </a:solidFill>
                <a:latin typeface="Tahoma"/>
              </a:rPr>
              <a:t>... uusi lasku alkaa tästä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Tahoma"/>
              </a:rPr>
              <a:t>&lt;/Finvoice&gt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lli Savonen   Helsingin kaupunginkirjasto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F9585F-3F75-4534-A6B1-84F66E4108D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6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Hankintajärjestelmän integrointi laskutusjärjestelmään</a:t>
            </a:r>
            <a:endParaRPr b="0" lang="en-US" sz="2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324000" y="836640"/>
            <a:ext cx="8540640" cy="52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Laskutusjärjestelmä välittää hankintajärjestelmälle laskun rivit, joita verrataan saapumistarkastukse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a3c145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uissa kirjaston tilauksissa tullaan käyttämään Kosti- ostotilausjärjestelmää, joka niinikään on integroitu laskutusjärjestelmään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a3c145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Niissä tapauksissa, kun tilaus vastaa toimitusta, ei laskuja tarvitse hyväksyä lainkaan. Hyväksyminen toteutuu jo tilausvaltuuksin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lli Savonen   Helsingin kaupunginkirjasto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FA21E0-B329-4FA6-B7C3-D4DEB55567D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8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Helsingin kaupungin integrointiratkaisuja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9" name=""/>
          <p:cNvSpPr/>
          <p:nvPr/>
        </p:nvSpPr>
        <p:spPr>
          <a:xfrm>
            <a:off x="539640" y="907920"/>
            <a:ext cx="73407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oimittajilta on vaadittu kilpailutuksesta verkkokauppasovellu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Verkkokauppaan tehdystä tilauksesta saadaan vahvistus sähköposti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0" name="" descr=""/>
          <p:cNvPicPr/>
          <p:nvPr/>
        </p:nvPicPr>
        <p:blipFill>
          <a:blip r:embed="rId1"/>
          <a:stretch/>
        </p:blipFill>
        <p:spPr>
          <a:xfrm>
            <a:off x="539640" y="1700280"/>
            <a:ext cx="8064720" cy="4529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lli Savonen   Helsingin kaupunginkirjasto 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486DA9-CAED-48CF-9759-CBB3419CD02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8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Helsingin kaupungin integrointiratkaisuja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542" name="" descr=""/>
          <p:cNvPicPr/>
          <p:nvPr/>
        </p:nvPicPr>
        <p:blipFill>
          <a:blip r:embed="rId1"/>
          <a:stretch/>
        </p:blipFill>
        <p:spPr>
          <a:xfrm>
            <a:off x="204840" y="1081080"/>
            <a:ext cx="8543880" cy="5156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lli Savonen   Helsingin kaupunginkirjasto 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450CFF-CC28-44AB-9130-32355312280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Helsingin kaupungin integrointiratkaisuja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ffffff"/>
                </a:solidFill>
                <a:latin typeface="Tahoma"/>
              </a:rPr>
              <a:t>Myös palute- ja laskujenkäsittelyjärjestelmä (Bib) on integroitu sähköpostii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ffffff"/>
                </a:solidFill>
                <a:latin typeface="Tahoma"/>
              </a:rPr>
              <a:t>Jatkossa ostotilausjärjestelmä integroidaan laskujenkäsittelyyn siten, että valtuutettua tilausta vastaan saatua sähköistä laskua ei tarvitse enää erikseen hyväksyä (jos se eroaa vain vähän tilauksen summasta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lli Savonen   Helsingin kaupunginkirjasto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E973AE-2A9C-4884-899C-FE9971E8170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Uusia liittymätapoja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600" spc="-1" strike="noStrike">
                <a:solidFill>
                  <a:srgbClr val="00ffff"/>
                </a:solidFill>
                <a:latin typeface="Tahoma"/>
              </a:rPr>
              <a:t>RSS</a:t>
            </a:r>
            <a:r>
              <a:rPr b="0" lang="fi-FI" sz="2600" spc="-1" strike="noStrike">
                <a:solidFill>
                  <a:srgbClr val="ffffff"/>
                </a:solidFill>
                <a:latin typeface="Tahoma"/>
              </a:rPr>
              <a:t> on lyhenne sanoista Really Simple Syndication  (RSS 2.0)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ffffff"/>
                </a:solidFill>
                <a:latin typeface="Tahoma"/>
              </a:rPr>
              <a:t>XML-pohjainen standardoitu välitystapa sisällön siirtämiselle palveluiden välillä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ffffff"/>
                </a:solidFill>
                <a:latin typeface="Tahoma"/>
              </a:rPr>
              <a:t>ebXML liiketoimintalähtöinen (business) malli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ffffff"/>
                </a:solidFill>
                <a:latin typeface="Tahoma"/>
              </a:rPr>
              <a:t>RSS mahdollistaa tiedon tilaamisen omalle päätelaitteelle (Internet-selain, sähköpostisovellus, matkapuhelin, Windows Vistan työpöytä jne.)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ffffff"/>
                </a:solidFill>
                <a:latin typeface="Tahoma"/>
              </a:rPr>
              <a:t>RSS mahdollistaa myös sisällön liittämisen osaksi toista verkkopalvelu (Googlen ja Live.comin personoidut työpöydät, portaalit, intranetit jne.)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lli Savonen   Helsingin kaupunginkirjasto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4C1BCB-1A23-4135-9A38-75ACC2DD3EE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ahoma"/>
              </a:rPr>
              <a:t>Kirjastot.fi:n RSS-feedit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300" spc="-1" strike="noStrike">
                <a:solidFill>
                  <a:srgbClr val="ffffff"/>
                </a:solidFill>
                <a:latin typeface="Tahoma"/>
              </a:rPr>
              <a:t>Ajankohtaista: http://www.kirjastot.fi/rss/tiedotteet.xml 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300" spc="-1" strike="noStrike">
                <a:solidFill>
                  <a:srgbClr val="ffffff"/>
                </a:solidFill>
                <a:latin typeface="Tahoma"/>
              </a:rPr>
              <a:t>Ammattikalenteri: http://www.kirjastot.fi/rss/ammattikalenteri.xml 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300" spc="-1" strike="noStrike">
                <a:solidFill>
                  <a:srgbClr val="ffffff"/>
                </a:solidFill>
                <a:latin typeface="Tahoma"/>
              </a:rPr>
              <a:t>Keskustelut ja blogit: http://www.kirjastot.fi/rss/keskustelut.xml 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300" spc="-1" strike="noStrike">
                <a:solidFill>
                  <a:srgbClr val="ffffff"/>
                </a:solidFill>
                <a:latin typeface="Tahoma"/>
              </a:rPr>
              <a:t>Kirjastoalan lehtiseuranta: http://www.kirjastot.fi/rss/lehdet.xml 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300" spc="-1" strike="noStrike">
                <a:solidFill>
                  <a:srgbClr val="ffffff"/>
                </a:solidFill>
                <a:latin typeface="Tahoma"/>
              </a:rPr>
              <a:t>Kysy kirjastonhoitajalta uusia vastauksia: http://www.kirjastot.fi/rss/kysy_kirjastonhoitajalta.xml 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300" spc="-1" strike="noStrike">
                <a:solidFill>
                  <a:srgbClr val="ffffff"/>
                </a:solidFill>
                <a:latin typeface="Tahoma"/>
              </a:rPr>
              <a:t>Linkkikirjaston uusia linkkejä: http://www.kirjastot.fi/rss/linkit.xml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lli Savonen   Helsingin kaupunginkirjasto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8AC77C-D9E0-47D3-9638-8FE77076E5C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ahoma"/>
              </a:rPr>
              <a:t>Esimerkki RSS-toteutuksesta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550" name="" descr=""/>
          <p:cNvPicPr/>
          <p:nvPr/>
        </p:nvPicPr>
        <p:blipFill>
          <a:blip r:embed="rId1"/>
          <a:stretch/>
        </p:blipFill>
        <p:spPr>
          <a:xfrm>
            <a:off x="395280" y="1125360"/>
            <a:ext cx="8220240" cy="5069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lli Savonen   Helsingin kaupunginkirjasto 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A3B83A-8720-411C-B0EF-B3627B65B72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Uusia liittymätapoja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ffff"/>
                </a:solidFill>
                <a:latin typeface="Tahoma"/>
              </a:rPr>
              <a:t>Atom Fe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ffffff"/>
                </a:solidFill>
                <a:latin typeface="Tahoma"/>
              </a:rPr>
              <a:t>Atom Syndication on RSS Feedeille vaihtoehtoinen tapa sisällön siirtämiselle palveluiden välillä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ffffff"/>
                </a:solidFill>
                <a:latin typeface="Tahoma"/>
              </a:rPr>
              <a:t>Monipuolisempi kuin RS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ffffff"/>
                </a:solidFill>
                <a:latin typeface="Tahoma"/>
              </a:rPr>
              <a:t>Ei yhtä laajalti tuettu (useimmissa päätelaitteissa / sovelluksissa ei sisäänrakennettua tukea, vaatii kolmannen osapuolen laajennuksen)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ffffff"/>
                </a:solidFill>
                <a:latin typeface="Tahoma"/>
              </a:rPr>
              <a:t>Useat palvelut mahdollistavat sekä RSS- että ATOM- määritysten mukaisten feedien tuottamisen / lukemisen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lli Savonen   Helsingin kaupunginkirjasto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C7AE1D-B9A8-4CDA-B074-EF567B86A28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Yhteenveto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-360" y="764640"/>
            <a:ext cx="86756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34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ffffff"/>
                </a:solidFill>
                <a:latin typeface="Tahoma"/>
              </a:rPr>
              <a:t>Integraation tarpeet</a:t>
            </a:r>
            <a:br>
              <a:rPr sz="1400"/>
            </a:br>
            <a:r>
              <a:rPr b="1" lang="fi-FI" sz="1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fi-FI" sz="1400" spc="-1" strike="noStrike">
                <a:solidFill>
                  <a:srgbClr val="ffffff"/>
                </a:solidFill>
                <a:latin typeface="Tahoma"/>
              </a:rPr>
              <a:t>Verkottuminen, toimintaympäristön monimutkaistuminen sekä (liike)toiminnan ja teknologian kiihtyvä muutos korostavat integraation merkitystä. Integraatio tarkoittaa järjestelmien lisäksi myös käyttäjien ja liiketoimintaprosessien kytkemistä toisiinsa virastoissa, kunnissa, yrityksissä ja niiden välillä. </a:t>
            </a:r>
            <a:br>
              <a:rPr sz="1400"/>
            </a:br>
            <a:br>
              <a:rPr sz="1400"/>
            </a:br>
            <a:r>
              <a:rPr b="0" lang="fi-FI" sz="1400" spc="-1" strike="noStrike">
                <a:solidFill>
                  <a:srgbClr val="ffffff"/>
                </a:solidFill>
                <a:latin typeface="Tahoma"/>
              </a:rPr>
              <a:t>Kytkentöjen jatkuvan muutosprosessin hallinta on yhä keskeisempi haaste, jota ei voi hoitaa yksittäisen järjestelmähankkeen osana; integraatio onkin yhä useammin keskeisin tietohallintotehtävä. Hallittu integraatio on johdettua ja tehokas toimintastrategioiden toteutusväline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Tahoma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34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ffffff"/>
                </a:solidFill>
                <a:latin typeface="Tahoma"/>
              </a:rPr>
              <a:t>Tietojärjestelmäkehittämisessä on kolme osa-aluetta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fi-FI" sz="1400" spc="-1" strike="noStrike">
                <a:solidFill>
                  <a:srgbClr val="ffffff"/>
                </a:solidFill>
                <a:latin typeface="Tahoma"/>
              </a:rPr>
              <a:t>Prosessi(toiminta)muutokset, IT-arkkitehtuuri ja tietojärjestelmien kehitys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34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fi-FI" sz="1400" spc="-1" strike="noStrike">
                <a:solidFill>
                  <a:srgbClr val="ffffff"/>
                </a:solidFill>
                <a:latin typeface="Tahoma"/>
              </a:rPr>
              <a:t>Kestävällä arkkitehtuurilla kestäviä järjestelmiä</a:t>
            </a:r>
            <a:br>
              <a:rPr sz="1400"/>
            </a:br>
            <a:br>
              <a:rPr sz="1400"/>
            </a:br>
            <a:r>
              <a:rPr b="0" lang="fi-FI" sz="1400" spc="-1" strike="noStrike">
                <a:solidFill>
                  <a:srgbClr val="ffffff"/>
                </a:solidFill>
                <a:latin typeface="Tahoma"/>
              </a:rPr>
              <a:t>IT-arkkitehtuuri jäsentää tietojärjestelmäkentän sektoreihin esimerkiksi toiminnallisin tai teknologisin perustein. Kestävää arkkitehtuuria hallitaan määrittelemällä sektoreittain parhaat ratkaisumallit teknologioiden elinkaarivaiheittain. Yksittäisen järjestelmän arkkitehtuuri johdetaan sektorin arkkitehtuurista ratkaisemaan järjestelmän ei-toiminnalliset vaatimukset.</a:t>
            </a:r>
            <a:br>
              <a:rPr sz="1400"/>
            </a:br>
            <a:br>
              <a:rPr sz="1400"/>
            </a:br>
            <a:r>
              <a:rPr b="0" lang="fi-FI" sz="1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34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Tahoma"/>
              </a:rPr>
              <a:t>Integraatio tulee organisaatiossa ajankohtaiseksi tietojärjestelmiä hankittaessa ja ylläpidettäessä. Ohjelmistotyöstä 70 % lasketaan johtuvan integroinnista. ICT-järjestelmien ja toiminnan kehittäminen siis sulautuvat toisiinsa. Integrointityössä kohdattavat haasteet eivät ole siis pelkästään teknisiä, joten se on tietohallinnon, prosessien omistajien ja ohjelmistokehittäjien yhteinen asia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lli Savonen   Helsingin kaupunginkirjasto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51CCAC-7E8A-492B-8FFA-691691E2ED2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ffffcc"/>
                </a:solidFill>
                <a:latin typeface="Tahoma"/>
              </a:rPr>
              <a:t>Kirjaston it-ympäristö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ffffff"/>
                </a:solidFill>
                <a:latin typeface="Tahoma"/>
              </a:rPr>
              <a:t>Helsingin kaupunginkirjastoss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fi-FI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fi-FI" sz="3200" spc="-1" strike="noStrike">
                <a:solidFill>
                  <a:srgbClr val="ffffff"/>
                </a:solidFill>
                <a:latin typeface="Tahoma"/>
              </a:rPr>
              <a:t>- 600 virkailijakonett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fi-FI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fi-FI" sz="3200" spc="-1" strike="noStrike">
                <a:solidFill>
                  <a:srgbClr val="ffffff"/>
                </a:solidFill>
                <a:latin typeface="Tahoma"/>
              </a:rPr>
              <a:t>- 360 asiakaskonett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fi-FI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fi-FI" sz="3200" spc="-1" strike="noStrike">
                <a:solidFill>
                  <a:srgbClr val="ffffff"/>
                </a:solidFill>
                <a:latin typeface="Tahoma"/>
              </a:rPr>
              <a:t>- 30 palvelinta (intra, web, Citrix PS,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ffffff"/>
                </a:solidFill>
                <a:latin typeface="Tahoma"/>
              </a:rPr>
              <a:t>It- henkilöstö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fi-FI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fi-FI" sz="3200" spc="-1" strike="noStrike">
                <a:solidFill>
                  <a:srgbClr val="ffffff"/>
                </a:solidFill>
                <a:latin typeface="Tahoma"/>
              </a:rPr>
              <a:t>- 6 it ammattilaist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fi-FI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fi-FI" sz="3200" spc="-1" strike="noStrike">
                <a:solidFill>
                  <a:srgbClr val="ffffff"/>
                </a:solidFill>
                <a:latin typeface="Tahoma"/>
              </a:rPr>
              <a:t>- 4 koulutettuan aluetukihenkilöä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fi-FI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fi-FI" sz="3200" spc="-1" strike="noStrike">
                <a:solidFill>
                  <a:srgbClr val="ffffff"/>
                </a:solidFill>
                <a:latin typeface="Tahoma"/>
              </a:rPr>
              <a:t>- 60 oto lähitukihenkilöä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lli Savonen   Helsingin kaupunginkirjasto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E27151-6444-48E6-99B3-7E699577A84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Kiitos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lli Savonen   Helsingin kaupunginkirjasto 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01A68B-1DE7-43E4-8D9B-6EA4CFA34B9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ffffcc"/>
                </a:solidFill>
                <a:latin typeface="Tahoma"/>
              </a:rPr>
              <a:t>Kirjaston IT-ympäristö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3" name=""/>
          <p:cNvSpPr/>
          <p:nvPr/>
        </p:nvSpPr>
        <p:spPr>
          <a:xfrm>
            <a:off x="1187280" y="1700280"/>
            <a:ext cx="3383280" cy="1441440"/>
          </a:xfrm>
          <a:prstGeom prst="ellipse">
            <a:avLst/>
          </a:prstGeom>
          <a:solidFill>
            <a:srgbClr val="ccffff">
              <a:alpha val="5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800" spc="-1" strike="noStrike">
                <a:solidFill>
                  <a:srgbClr val="ffffff"/>
                </a:solidFill>
                <a:latin typeface="Tahoma"/>
              </a:rPr>
              <a:t>Kirjastot.f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5219640" y="1844640"/>
            <a:ext cx="3600360" cy="23050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800" spc="-1" strike="noStrike">
                <a:solidFill>
                  <a:srgbClr val="ffffff"/>
                </a:solidFill>
                <a:latin typeface="Tahoma"/>
              </a:rPr>
              <a:t>HelMet.f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250920" y="3645000"/>
            <a:ext cx="5329080" cy="2520720"/>
          </a:xfrm>
          <a:prstGeom prst="ellipse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b5d6b"/>
                </a:solidFill>
                <a:latin typeface="Tahoma"/>
              </a:rPr>
              <a:t>     </a:t>
            </a:r>
            <a:r>
              <a:rPr b="1" lang="en-US" sz="1800" spc="-1" strike="noStrike">
                <a:solidFill>
                  <a:srgbClr val="5b5d6b"/>
                </a:solidFill>
                <a:latin typeface="Tahoma"/>
              </a:rPr>
              <a:t>Keskitetyt palvelu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b5d6b"/>
                </a:solidFill>
                <a:latin typeface="Tahoma"/>
              </a:rPr>
              <a:t>40 toimipistettä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b5d6b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5b5d6b"/>
                </a:solidFill>
                <a:latin typeface="Tahoma"/>
              </a:rPr>
              <a:t>3 kirjastoauto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b5d6b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5b5d6b"/>
                </a:solidFill>
                <a:latin typeface="Tahoma"/>
              </a:rPr>
              <a:t>11 laitoskirjasto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lli Savonen   Helsingin kaupunginkirjasto 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B496EE-F1F3-4D8B-ABCE-692D2794647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Järjestelmät integroidaan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ff"/>
                </a:solidFill>
                <a:latin typeface="Tahoma"/>
              </a:rPr>
              <a:t>Eri siirtotavoill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ff"/>
                </a:solidFill>
                <a:latin typeface="Tahoma"/>
              </a:rPr>
              <a:t>Erilaisten liityntäpintojen kautt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ffffff"/>
                </a:solidFill>
                <a:latin typeface="Tahoma"/>
              </a:rPr>
              <a:t>Teknisesti integraatioratkaisut voidaan jakaa neljään luokkaan: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ffffff"/>
                </a:solidFill>
                <a:latin typeface="Tahoma"/>
              </a:rPr>
              <a:t>SOA eli palvelupohjaiset ratkaisut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ffffff"/>
                </a:solidFill>
                <a:latin typeface="Tahoma"/>
              </a:rPr>
              <a:t>EDA eli tapahtumapohjaiset ratkaisut, EDI/OVT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ffffff"/>
                </a:solidFill>
                <a:latin typeface="Tahoma"/>
              </a:rPr>
              <a:t>Point-to-point eli suorat järjestelmien väliset liitännät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ffffff"/>
                </a:solidFill>
                <a:latin typeface="Tahoma"/>
              </a:rPr>
              <a:t>DI eli tietokantaintegraatio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ffffff"/>
                </a:solidFill>
                <a:latin typeface="Tahoma"/>
              </a:rPr>
              <a:t>Eri ratkaisuista valitaan kohdeympäristöön sopiva kokonaisuus, jonka avulla integraatio toteutetaan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fi-FI" sz="1600" spc="-1" strike="noStrike">
                <a:solidFill>
                  <a:srgbClr val="ffffff"/>
                </a:solidFill>
                <a:latin typeface="Tahoma"/>
              </a:rPr>
              <a:t>Valittavana ovat SOA-tyyppiset teknologiat kuten WebServices, sanomanvälitysjärjestelmät (Message-Oriented Middleware, MOM) sekä näiden varaan rakentuvat Enterprise Service Bus (ESB)- ja Message Broker -ratkaisut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lli Savonen   Helsingin kaupunginkirjasto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8DD6E4-8DE9-49C2-88F6-C10B626CFAF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Varhaisia ratkaisuja (1976)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3564000" y="1125360"/>
            <a:ext cx="2462040" cy="2016360"/>
          </a:xfrm>
          <a:prstGeom prst="rect">
            <a:avLst/>
          </a:prstGeom>
          <a:ln w="0">
            <a:noFill/>
          </a:ln>
        </p:spPr>
      </p:pic>
      <p:pic>
        <p:nvPicPr>
          <p:cNvPr id="400" name="" descr="PDP-11/40 with dual DECtape drives."/>
          <p:cNvPicPr/>
          <p:nvPr/>
        </p:nvPicPr>
        <p:blipFill>
          <a:blip r:embed="rId2"/>
          <a:stretch/>
        </p:blipFill>
        <p:spPr>
          <a:xfrm>
            <a:off x="6372360" y="1052640"/>
            <a:ext cx="2417760" cy="3222360"/>
          </a:xfrm>
          <a:prstGeom prst="rect">
            <a:avLst/>
          </a:prstGeom>
          <a:ln w="0">
            <a:noFill/>
          </a:ln>
        </p:spPr>
      </p:pic>
      <p:sp>
        <p:nvSpPr>
          <p:cNvPr id="401" name=""/>
          <p:cNvSpPr/>
          <p:nvPr/>
        </p:nvSpPr>
        <p:spPr>
          <a:xfrm>
            <a:off x="6388200" y="4570560"/>
            <a:ext cx="207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DP-11, 16 bittin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3"/>
          <a:stretch/>
        </p:blipFill>
        <p:spPr>
          <a:xfrm>
            <a:off x="324000" y="1071720"/>
            <a:ext cx="2952720" cy="1903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03" name=""/>
          <p:cNvGraphicFramePr/>
          <p:nvPr/>
        </p:nvGraphicFramePr>
        <p:xfrm>
          <a:off x="755640" y="1413000"/>
          <a:ext cx="1968480" cy="266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55640" y="1413000"/>
                    <a:ext cx="1968480" cy="26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05" name="" descr=""/>
          <p:cNvPicPr/>
          <p:nvPr/>
        </p:nvPicPr>
        <p:blipFill>
          <a:blip r:embed="rId6"/>
          <a:stretch/>
        </p:blipFill>
        <p:spPr>
          <a:xfrm>
            <a:off x="395280" y="3213000"/>
            <a:ext cx="5684760" cy="289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lli Savonen   Helsingin kaupunginkirjasto 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370A54-1189-4BD5-8894-AE6317F25F0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Komponenttien elinkaari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ärjestelmäintegraatio lisää yksittäisten sovellusten käyttöikää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uolehdittava myös rajapintojen elinkaarest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lli Savonen   Helsingin kaupunginkirjasto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495D93-D258-41D4-BCC8-908D9573020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Integraatiossa kolme mahdollisuutta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ffffff"/>
                </a:solidFill>
                <a:latin typeface="Tahoma"/>
              </a:rPr>
              <a:t>Tiedon välity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fi-FI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fi-FI" sz="1800" spc="-1" strike="noStrike">
                <a:solidFill>
                  <a:srgbClr val="ffffff"/>
                </a:solidFill>
                <a:latin typeface="Tahoma"/>
              </a:rPr>
              <a:t>- operatiivisissa sovelluksissa tarvitaan mahdollisimman tosiaikaista tieto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fi-FI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fi-FI" sz="1800" spc="-1" strike="noStrike">
                <a:solidFill>
                  <a:srgbClr val="ffffff"/>
                </a:solidFill>
                <a:latin typeface="Tahoma"/>
              </a:rPr>
              <a:t>- integraation onnistunut suunnittelu edellyttää tarkkaa prosessikuvaust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ffffff"/>
                </a:solidFill>
                <a:latin typeface="Tahoma"/>
              </a:rPr>
              <a:t>Käyttöoikeuksien jak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fi-FI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fi-FI" sz="1800" spc="-1" strike="noStrike">
                <a:solidFill>
                  <a:srgbClr val="ffffff"/>
                </a:solidFill>
                <a:latin typeface="Tahoma"/>
              </a:rPr>
              <a:t>- näissä on tietoturvauhki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fi-FI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fi-FI" sz="1800" spc="-1" strike="noStrike">
                <a:solidFill>
                  <a:srgbClr val="ffffff"/>
                </a:solidFill>
                <a:latin typeface="Tahoma"/>
              </a:rPr>
              <a:t>- yhteinen järjestelmä kuten HelMet-kirjastojärjestelmä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ffffff"/>
                </a:solidFill>
                <a:latin typeface="Tahoma"/>
              </a:rPr>
              <a:t>Resurssien jak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fi-FI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fi-FI" sz="1800" spc="-1" strike="noStrike">
                <a:solidFill>
                  <a:srgbClr val="ffffff"/>
                </a:solidFill>
                <a:latin typeface="Tahoma"/>
              </a:rPr>
              <a:t>-esimerkiksi kotitietokoneiden käyttö laskentatehtävissä (harvinaista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lli Savonen   Helsingin kaupunginkirjasto 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1B5B0A-DC72-44CA-9F7E-64B7A0106B4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5T12:06:08Z</dcterms:created>
  <dc:creator>savoneno</dc:creator>
  <dc:description/>
  <dc:language>en-US</dc:language>
  <cp:lastModifiedBy>savoneno</cp:lastModifiedBy>
  <dcterms:modified xsi:type="dcterms:W3CDTF">2007-03-09T08:29:28Z</dcterms:modified>
  <cp:revision>38</cp:revision>
  <dc:subject/>
  <dc:title>Järjestelmäintegraatio</dc:title>
</cp:coreProperties>
</file>