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wmf" ContentType="image/x-wmf"/>
  <Override PartName="/ppt/media/image14.wmf" ContentType="image/x-wmf"/>
  <Override PartName="/ppt/media/image22.jpeg" ContentType="image/jpeg"/>
  <Override PartName="/ppt/media/image1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17EB-F654-4D6F-95AC-3A7D6E04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4319-4580-42AB-97B2-600D2C02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E27C-51F5-4C26-A441-AC99E14D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5025-B07D-4892-A455-038CDCB5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7A19-B675-47B8-81E4-7C04EF10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C57B-B439-4940-8E89-33DE30C4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EE3E-07F3-49F7-9ADB-F1072BE5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FB11-9183-4552-AFC7-D8DBC8C4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A15D-B3BD-409C-B773-3787605A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4A90-FC00-4F9D-9C51-29BBD691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96B3-216C-431F-ADC8-9D93BCB7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DE5F-7BAC-4B30-AE74-A2DE9A16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4014-6CD5-4D2F-A613-9288D6BE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118C-4F55-4DD3-AE34-EC8A8475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DD27-5CAE-4CDB-8563-35D63767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3DE2-F8A1-4765-8F3A-D92B13E9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11EC-E6BA-4504-98FE-7B0BBF49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3D6B-F03E-495B-BB8A-352AD0CE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DB4C-9331-4AD4-89A2-F57C434B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57AC-CCE7-424A-BB71-B4856EA6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0133-4D1B-4FFA-B5FD-DCF532C5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949E-7341-4B49-A385-6906E512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1BF9-A5C7-40B8-B6F1-94D65A6F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093B-BAE6-4158-A752-8C482149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77E2-04B9-40C2-B1F7-F16A3B3FE47C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718F-74F8-41B1-AAEA-2E50EAD478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BEDF-0DDB-41A9-8A31-AFD2219067FD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57AA-02F8-4B48-AAEB-2B4A02A176B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ib.hel.f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itrix.com/index.asp" TargetMode="External"/><Relationship Id="rId2" Type="http://schemas.openxmlformats.org/officeDocument/2006/relationships/hyperlink" Target="http://www.citrix.com/index.asp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Järjestelmäintegraatio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leisperiaatteita ja Helsingin kaupunginkirjaston toteutuks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72CF789-2D38-45E5-AD84-A84F4292D5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Jaettuja julkishallinnon tietokantoj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395280" y="1197000"/>
            <a:ext cx="144000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Henkil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V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492360" y="1628640"/>
            <a:ext cx="1511280" cy="792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Yhti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YT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124000" y="19162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3357720"/>
            <a:ext cx="1368360" cy="79200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Rekisterö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ajoneu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A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00360" y="3068640"/>
            <a:ext cx="1800360" cy="10796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Kiinteist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KT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076720" y="2924280"/>
            <a:ext cx="1800360" cy="1441440"/>
          </a:xfrm>
          <a:prstGeom prst="rect">
            <a:avLst/>
          </a:prstGeom>
          <a:solidFill>
            <a:srgbClr val="9b998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Tont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M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451640" y="3068640"/>
            <a:ext cx="1692360" cy="1008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akennuslu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900000" y="2205000"/>
            <a:ext cx="50328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1331640" y="2205000"/>
            <a:ext cx="208764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547640" y="2205000"/>
            <a:ext cx="187200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643280" y="3573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948360" y="3645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63640" y="5084640"/>
            <a:ext cx="352908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Oso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-muutos päivittyy periaattees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automaattisesti kaikkial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64000" y="4292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427280" y="4437000"/>
            <a:ext cx="10810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003640" y="2565360"/>
            <a:ext cx="86364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3850920" y="2492280"/>
            <a:ext cx="36036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003040" y="135576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ösuhd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äs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60520" y="2508120"/>
            <a:ext cx="109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mist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45120" y="229248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mistaja, vuokra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941D7-12EE-4DA4-AEF6-54F3344D8D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unnustenhallinta integraatioss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ADFS eli Active Directory Federation Service;  Microsoft-ympäristössä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Esimerkiksi Shibboleth Unix-maailmass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Yhteensovitus mahdollista ja sen avulla jopa kertakirjautumimen mahdolist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Nelli on kansallinen tiedonhakuportaali, joka sisältää yliopisto- ja ammattikorkeakoulukirjastojen sekä yleisten kirjastojen hankkimia elektronisia aineistoja (mm. e-lehtiä, e-kirjoja ja viitetietokantoja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Nelli-portaalin kirjatumisjärjestelmänä on käytetty LDAPia (Lightweight Directory Access Protocol). Sen käyttö on mahdollista vain niissä yliopistoissa, joissa on LDAP-asiakashakemistorakenne. LDAPin huonona puolena on se, että kriittistä tietoa (salasana) kulkee portaalipalvelimella, vaikkakin salattuna. Shibboleth-tunnistustapa ratkaisee tämän ongelman. Shibboleth-järjestelmässä kirjautumista varten siirrytään kotiorganisaation kirjautumispalvelimelle, jossa käyttäjä tunnistetaan. Tämän jälkeen Nelli-portaalille lähetään tieto siitä, että käyttäjä on tunnistettu. Nellissä asiakas yksilöidään sähköpostiosoitteen alkuosan avull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Turvallisen tunnistamisen lisäksi Shibboleth mahdollistaa kertakirjatumisen. Kertaalleen autentikoidun asiakkaan ei tarvitse kirjautua uudelleen siirtyessään palvelusta toiseen, sillä Shibboleth-tekniikalla voidaan välittää tiedot autentikoidusta henkilöstä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E2FBA-39EA-4E84-9E44-D261BEEC0F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cc"/>
                </a:solidFill>
                <a:latin typeface="Tahoma"/>
              </a:rPr>
              <a:t>Tunnustenhallinta integraatiossa</a:t>
            </a:r>
            <a:br>
              <a:rPr sz="2800"/>
            </a:br>
            <a:r>
              <a:rPr b="0" lang="fi-FI" sz="2800" spc="-1" strike="noStrike">
                <a:solidFill>
                  <a:srgbClr val="ffffcc"/>
                </a:solidFill>
                <a:latin typeface="Tahoma"/>
              </a:rPr>
              <a:t>-</a:t>
            </a:r>
            <a:r>
              <a:rPr b="0" lang="fi-FI" sz="1800" spc="-1" strike="noStrike">
                <a:solidFill>
                  <a:srgbClr val="ffffcc"/>
                </a:solidFill>
                <a:latin typeface="Tahoma"/>
              </a:rPr>
              <a:t>Helmet-konsortion ulkoistetun hankintajärjestelmän käyttö</a:t>
            </a:r>
            <a:br>
              <a:rPr sz="1800"/>
            </a:br>
            <a:r>
              <a:rPr b="0" lang="fi-FI" sz="1800" spc="-1" strike="noStrike">
                <a:solidFill>
                  <a:srgbClr val="ffffcc"/>
                </a:solidFill>
                <a:latin typeface="Tahoma"/>
              </a:rPr>
              <a:t>-AD integraatio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13744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B2540-5543-4859-9576-9B6AF4035D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oteutuksia Helsingin kaupunginkirjastoss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Julkaisujärjestelm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Intra – Internet (Web Servic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Asiakastyöasemien ajanvara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Efecte Asset – Asta (XLS)</a:t>
            </a: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Kirjautumi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Millennium – Asko (SIP 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Logistiik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Helmet-kirjastojen hankintajärjestelm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1D8E8-4580-49CD-91CD-FF38EF891A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Julkaisujärjestelmä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Intranet; Meteor julkaisujärjestelmä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www.lib.hel.f</a:t>
            </a: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 ; -//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www.kirjastot.fi; -//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Meteor pohjautuu täysin rakenteiseen ja määrämuotoiseen sisältöön, joten käytännössä mitä tahansa liittymämallia voidaan käyttää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Esimerkiks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XML Web Servi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RSS- ja ATOM- feedi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Active Directory –liittymä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Suorat tietokantayhteydet (samassa lähiverkon osass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Tiedon tuonti/vienti Microsoft Office-tuotteis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CSV –tekstitiedost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Kertakirjautuminen eri palveluiden välillä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Räätälöidyt liittymä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64C6D3-F8D0-43F8-951B-0F26A3905E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fi-FI" sz="2400" spc="-1" strike="noStrike">
                <a:solidFill>
                  <a:srgbClr val="ffffcc"/>
                </a:solidFill>
                <a:latin typeface="Tahoma"/>
              </a:rPr>
              <a:t>CSV-tiedoston muodostaminenExcelillä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5832360" cy="49532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6941520" y="2147760"/>
            <a:ext cx="221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Tiedo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Tallenna nimell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Tiedostomuo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CS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2CAAF-ACF4-4BF1-AE9D-2BE7B39B5F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cc"/>
                </a:solidFill>
                <a:latin typeface="Tahoma"/>
              </a:rPr>
              <a:t>Esimerkiksi CSV-tiedoston muodostaminenExcelillä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253360" cy="465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0CEDD-F793-4FA7-BBCD-A2D33ECA88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iittymäarkkitehtuur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763640" y="1420920"/>
            <a:ext cx="611028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97811-5FF9-414C-B6C5-4A11E08D52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5976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cc"/>
                </a:solidFill>
                <a:latin typeface="Tahoma"/>
              </a:rPr>
              <a:t>Asko-asiakastietokone </a:t>
            </a:r>
            <a:r>
              <a:rPr b="0" lang="fi-FI" sz="1200" spc="-1" strike="noStrike">
                <a:solidFill>
                  <a:srgbClr val="ffffcc"/>
                </a:solidFill>
                <a:latin typeface="Tahoma"/>
              </a:rPr>
              <a:t>(www.lib.hel.fi/asko)</a:t>
            </a:r>
            <a:r>
              <a:rPr b="0" lang="fi-FI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000"/>
            </a:br>
            <a:r>
              <a:rPr b="1" lang="fi-FI" sz="2000" spc="-1" strike="noStrike">
                <a:solidFill>
                  <a:srgbClr val="ffffcc"/>
                </a:solidFill>
                <a:latin typeface="Tahoma"/>
              </a:rPr>
              <a:t>- komponentit             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24000" y="620280"/>
            <a:ext cx="85183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1219320" y="304920"/>
            <a:ext cx="7772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716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Sans Unicode"/>
              </a:rPr>
              <a:t>MILLENN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295280" y="2209680"/>
            <a:ext cx="1143000" cy="99072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705720" y="35812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cc"/>
                </a:solidFill>
                <a:latin typeface="Lucida Sans Unicode"/>
              </a:rPr>
              <a:t>Customer Works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848720" y="3962520"/>
            <a:ext cx="1066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ffffff"/>
                </a:solidFill>
                <a:latin typeface="Lucida Sans Unicode"/>
              </a:rPr>
              <a:t>Thin Cli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300720" y="1557360"/>
            <a:ext cx="1676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cc"/>
                </a:solidFill>
                <a:latin typeface="Lucida Sans Unicode"/>
              </a:rPr>
              <a:t>Booking 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372360" y="1916280"/>
            <a:ext cx="1143000" cy="45720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733920" y="3886200"/>
            <a:ext cx="838080" cy="685800"/>
          </a:xfrm>
          <a:custGeom>
            <a:avLst/>
            <a:gdLst>
              <a:gd name="textAreaLeft" fmla="*/ 209520 w 838080"/>
              <a:gd name="textAreaRight" fmla="*/ 62856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276720" y="36576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cc"/>
                </a:solidFill>
                <a:latin typeface="Lucida Sans Unicode"/>
              </a:rPr>
              <a:t>Login 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435640" y="68580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Customer</a:t>
            </a: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Librari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(https://varaus.lib.hel.f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012000" y="1197000"/>
            <a:ext cx="228600" cy="380880"/>
          </a:xfrm>
          <a:custGeom>
            <a:avLst/>
            <a:gdLst>
              <a:gd name="textAreaLeft" fmla="*/ 30600 w 228600"/>
              <a:gd name="textAreaRight" fmla="*/ 198000 w 22860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77080" y="12682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372360" y="5013360"/>
            <a:ext cx="24382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card+pin (keyboard entr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WIM (wireless ID modu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smart c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USB-flash + p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2438280"/>
            <a:ext cx="236196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ID for loggin 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name (email) or</a:t>
            </a: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library card numb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pin (4 digi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819520" y="479736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200" spc="-1" strike="noStrike">
                <a:solidFill>
                  <a:srgbClr val="ffffff"/>
                </a:solidFill>
                <a:latin typeface="Lucida Sans Unicode"/>
              </a:rPr>
              <a:t>Meta Fr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743200" y="5257800"/>
            <a:ext cx="990720" cy="38088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781680" y="274320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cc"/>
                </a:solidFill>
                <a:latin typeface="Lucida Sans Unicode"/>
              </a:rPr>
              <a:t>Efecte Network Inspe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0" y="2971800"/>
            <a:ext cx="457200" cy="30492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948360" y="2565360"/>
            <a:ext cx="152640" cy="228600"/>
          </a:xfrm>
          <a:prstGeom prst="upArrow">
            <a:avLst>
              <a:gd name="adj1" fmla="val 50000"/>
              <a:gd name="adj2" fmla="val 37441"/>
            </a:avLst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2743200" y="3124080"/>
            <a:ext cx="6786720" cy="853920"/>
            <a:chOff x="2743200" y="3124080"/>
            <a:chExt cx="6786720" cy="853920"/>
          </a:xfrm>
        </p:grpSpPr>
        <p:sp>
          <p:nvSpPr>
            <p:cNvPr id="468" name=""/>
            <p:cNvSpPr/>
            <p:nvPr/>
          </p:nvSpPr>
          <p:spPr>
            <a:xfrm>
              <a:off x="2743200" y="3124080"/>
              <a:ext cx="6786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43200" y="3124080"/>
              <a:ext cx="67867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a3c145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50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0" name="logo" descr="Citrix.com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52480" y="43657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2575080" y="2490840"/>
            <a:ext cx="108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Sip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438280" y="2895480"/>
            <a:ext cx="990720" cy="76212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4572000" y="2438280"/>
            <a:ext cx="1828800" cy="152424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724280" y="4267080"/>
            <a:ext cx="160020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4057560" y="3006720"/>
            <a:ext cx="9144000" cy="360"/>
            <a:chOff x="4057560" y="3006720"/>
            <a:chExt cx="9144000" cy="360"/>
          </a:xfrm>
        </p:grpSpPr>
        <p:sp>
          <p:nvSpPr>
            <p:cNvPr id="476" name=""/>
            <p:cNvSpPr/>
            <p:nvPr/>
          </p:nvSpPr>
          <p:spPr>
            <a:xfrm>
              <a:off x="4057560" y="3006720"/>
              <a:ext cx="5340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057560" y="3006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8" name="3125ko90x74" descr=""/>
          <p:cNvPicPr/>
          <p:nvPr/>
        </p:nvPicPr>
        <p:blipFill>
          <a:blip r:embed="rId4"/>
          <a:stretch/>
        </p:blipFill>
        <p:spPr>
          <a:xfrm>
            <a:off x="6781680" y="3886200"/>
            <a:ext cx="1028880" cy="8460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 flipH="1">
            <a:off x="3733560" y="4572000"/>
            <a:ext cx="22860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937320" y="464832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Secure Access Manage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451640" y="2990880"/>
            <a:ext cx="144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HW &amp; SW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Information integratio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(daily updatin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96080" y="1557360"/>
            <a:ext cx="105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Open hours from Web Sit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005320" y="426420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Lucida Sans Unicode"/>
              </a:rPr>
              <a:t>PC (XP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772400" y="1828800"/>
            <a:ext cx="762120" cy="304920"/>
          </a:xfrm>
          <a:prstGeom prst="can">
            <a:avLst>
              <a:gd name="adj" fmla="val 25000"/>
            </a:avLst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543800" y="1981080"/>
            <a:ext cx="152280" cy="76320"/>
          </a:xfrm>
          <a:prstGeom prst="leftRightArrow">
            <a:avLst>
              <a:gd name="adj1" fmla="val 50000"/>
              <a:gd name="adj2" fmla="val 39721"/>
            </a:avLst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772400" y="838080"/>
            <a:ext cx="304920" cy="22860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069040" y="835200"/>
            <a:ext cx="73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000" spc="-1" strike="noStrike">
                <a:solidFill>
                  <a:srgbClr val="ffffff"/>
                </a:solidFill>
                <a:latin typeface="Lucida Sans Unicode"/>
              </a:rPr>
              <a:t>Activ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000" spc="-1" strike="noStrike">
                <a:solidFill>
                  <a:srgbClr val="ffffff"/>
                </a:solidFill>
                <a:latin typeface="Lucida Sans Unicode"/>
              </a:rPr>
              <a:t>Direct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959200" y="5473800"/>
            <a:ext cx="990360" cy="38088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74840" y="5689440"/>
            <a:ext cx="990720" cy="38124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390840" y="5905440"/>
            <a:ext cx="990720" cy="38124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5"/>
          <a:stretch/>
        </p:blipFill>
        <p:spPr>
          <a:xfrm>
            <a:off x="3740040" y="1125360"/>
            <a:ext cx="1041480" cy="140508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6"/>
          <a:stretch/>
        </p:blipFill>
        <p:spPr>
          <a:xfrm>
            <a:off x="6659640" y="138240"/>
            <a:ext cx="541440" cy="52380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8"/>
          <a:stretch/>
        </p:blipFill>
        <p:spPr>
          <a:xfrm>
            <a:off x="5737320" y="287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12F31-4E6B-441E-A6DE-DAFA555CC2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Kahden järjestelmän integraatiototeutu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Tietokantapohjainen integraatio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8015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Efecte Asset</a:t>
            </a: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               Asta ajanvara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3411000" y="2090160"/>
            <a:ext cx="1674000" cy="1363680"/>
            <a:chOff x="3411000" y="2090160"/>
            <a:chExt cx="1674000" cy="1363680"/>
          </a:xfrm>
        </p:grpSpPr>
        <p:sp>
          <p:nvSpPr>
            <p:cNvPr id="498" name="_s32776"/>
            <p:cNvSpPr/>
            <p:nvPr/>
          </p:nvSpPr>
          <p:spPr>
            <a:xfrm>
              <a:off x="3719880" y="2090160"/>
              <a:ext cx="1056600" cy="939240"/>
            </a:xfrm>
            <a:custGeom>
              <a:avLst/>
              <a:gdLst>
                <a:gd name="textAreaLeft" fmla="*/ 0 w 1056600"/>
                <a:gd name="textAreaRight" fmla="*/ 1056960 w 1056600"/>
                <a:gd name="textAreaTop" fmla="*/ 0 h 939240"/>
                <a:gd name="textAreaBottom" fmla="*/ 939600 h 93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_s32777"/>
            <p:cNvSpPr/>
            <p:nvPr/>
          </p:nvSpPr>
          <p:spPr>
            <a:xfrm rot="7200000">
              <a:off x="3922560" y="2253960"/>
              <a:ext cx="939600" cy="105660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1056600"/>
                <a:gd name="textAreaBottom" fmla="*/ 1056960 h 105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_s32779"/>
            <p:cNvSpPr/>
            <p:nvPr/>
          </p:nvSpPr>
          <p:spPr>
            <a:xfrm rot="14400000">
              <a:off x="3633480" y="2254320"/>
              <a:ext cx="939600" cy="105660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1056600"/>
                <a:gd name="textAreaBottom" fmla="*/ 1056960 h 105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_s32774"/>
            <p:cNvSpPr/>
            <p:nvPr/>
          </p:nvSpPr>
          <p:spPr>
            <a:xfrm>
              <a:off x="4537440" y="2261880"/>
              <a:ext cx="42372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_s32775"/>
            <p:cNvSpPr/>
            <p:nvPr/>
          </p:nvSpPr>
          <p:spPr>
            <a:xfrm>
              <a:off x="4036680" y="3034800"/>
              <a:ext cx="42372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_s32778"/>
            <p:cNvSpPr/>
            <p:nvPr/>
          </p:nvSpPr>
          <p:spPr>
            <a:xfrm>
              <a:off x="3534480" y="2262600"/>
              <a:ext cx="42372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1722240" cy="14400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6084720" y="2133720"/>
            <a:ext cx="1722600" cy="151128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0" y="38606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skannaa asiakaskoneet (350)  kerran päivässä ja kirjoittaa tietokantatauluun tilant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virkailija täydentää esimerkiksi jonotuskone/varauskonetiedon, lisälaitteet kuten skanneri, käyttöa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716360" y="3789360"/>
            <a:ext cx="442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virkailija ylläpitää tilatieto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(kunnossa tai e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järjestelmä kirjautuu ajastetusti kerran päivässä Assettiin ja noutaa päivitetyn tilanteen ja palauttaa laitteiden tilatie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toimintaa voidaan jatkaa ’vanhalla’ tilanteella, mikäli haku ei onnis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3B5EF-48FF-4AFB-AC8D-3493145CB4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llekirjoittaneen taust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uK, tietotekniikkapäällikk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 v. yksityisen palvelukses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kia 1973-197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etonauha 1980-198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ukomarkkinat 1987-199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lsingin kaupunki 14 v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kennusvirasto 3 v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upunginkirjasto 11 v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4B511-F6B4-4549-83C1-6571EDB78B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cc"/>
                </a:solidFill>
                <a:latin typeface="Tahoma"/>
              </a:rPr>
              <a:t>Efecte Asset- laitetiedo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1576440" y="1752480"/>
            <a:ext cx="59911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09A72-8362-44ED-BE86-ADBAE84997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sta - virkailijavarau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2847960" y="1395360"/>
            <a:ext cx="3448080" cy="40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E1159-3270-49BE-B29A-23BC2E5056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ogistiikkaintegrointi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lautusautomaatt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8181720" cy="443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B4E19-B4D6-44AA-A6E6-55464584B1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Logistiikkaintegrointi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680" y="980640"/>
            <a:ext cx="8540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Palautettu aineisto jakautuu pääsäntöisesti kahteen: kyseiseen kirjastoon jäävään ja jatkokuljetista vaativaan (varatut ja muiden kirjastojen niteet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265800" cy="40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2877F-26AB-42D2-8DB5-11FC05AAC2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38386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ogistiikkaintegroint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836280"/>
            <a:ext cx="85406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jittel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000 nidettä per päivä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3924360" y="0"/>
            <a:ext cx="5078520" cy="613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AD163-8E9A-48E9-9DBA-28704CE8356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3765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ogistiikkaintegroint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320" y="907920"/>
            <a:ext cx="58546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ffffff"/>
                </a:solidFill>
                <a:latin typeface="Tahoma"/>
              </a:rPr>
              <a:t>Ohjaustietoko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ffffff"/>
                </a:solidFill>
                <a:latin typeface="Tahoma"/>
              </a:rPr>
              <a:t>PC kytkettynä lajittelijaan, jossa erityisominaisuutena 2 kpl Com-portteja. Com1 lajittelijan logiikkayksikkö ja Com2 lajittelijan Sick laserlukija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6409080" cy="43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4245E-0536-4324-B173-1B7E59F1AE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27032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ogistiikkaintegroint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680" y="836640"/>
            <a:ext cx="2541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Skanna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3780000" y="17640"/>
            <a:ext cx="5130720" cy="684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EF349F-A222-42E8-9152-8B4494FC5F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34783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ogistiikkaintegroint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3693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jittelu laatikoih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6467400" cy="484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B609CC-DB2E-427E-B737-359B211E59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ogistiikkaintegroint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ff"/>
                </a:solidFill>
                <a:latin typeface="Tahoma"/>
              </a:rPr>
              <a:t>Tekninen toteutus tietojen noutamiseen Millenniumis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ff"/>
                </a:solidFill>
                <a:latin typeface="Tahoma"/>
              </a:rPr>
              <a:t>Tiedot haetaan ohjaustyöasemassa käynnistettävällä SmartTerm 7-emulaattori- makroll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ff"/>
                </a:solidFill>
                <a:latin typeface="Tahoma"/>
              </a:rPr>
              <a:t>Liittymä on merkkipohjainen Innopac ja makroon on nauhoitettu tarvittavat komenno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ff"/>
                </a:solidFill>
                <a:latin typeface="Tahoma"/>
              </a:rPr>
              <a:t>Ajo ajetaan normaalin Create List toiminnon avul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ff"/>
                </a:solidFill>
                <a:latin typeface="Tahoma"/>
              </a:rPr>
              <a:t>Listauksesta muodostetaan tiedosto joka tuodaan kirjaston verkossa sijaitsevalle FTP-palvelimelle käyttäjän pyynnöllä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ff"/>
                </a:solidFill>
                <a:latin typeface="Tahoma"/>
              </a:rPr>
              <a:t>Millenniumilta ei voi noutaa dataa vaan data tulee lähettää Millenniumin omalla FTP -clientilla ulospäi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FD533-BC80-4166-9EF9-3AEC8C8CF5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Hankintajärjestelmän integrointi laskutusjärjestelmään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4064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Hankintajärjestelmä tuottaa tilauksia toimittajalle, jolta lähtee sähköinen lasku tilaajan laskutusjärjestelmää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Finvoic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PartyIdentifier&gt;[Myyjäkortistossa oleva sellerpartyidentifier myyjän tunnistamiseen]&lt;/SellerPartyIdentifier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OrganisationName&gt;[Myyjän nimi]&lt;/SellerOrganisationNam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ContactPersonName&gt;[Myyjän lisänimi]&lt;/SellerContactPersonNam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StreetName&gt;[Myyjän katuosoite]&lt;/SellerStreetNam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PostCodeIdentifier&gt;[Myyjän postiosoite]&lt;/SellerPostCodeIdentifier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TownName&gt;[Myyjän kaupunki]&lt;/SellerTownNam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PhoneNumberIdentifier&gt;[Myyjän puhelin]&lt;/SellerPhoneNumberIdentifier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FaxNumber&gt;[Myyjän telefax]&lt;/SellerFaxNumber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EmailaddressIdentifier&gt;[Myyjän sähköposti]&lt;/SellerEmailaddressIdentifier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WebaddressIdentifier&gt;[Myyjän kotisivujen osoite]&lt;/SellerWebaddressIdentifier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A6883-3B05-443F-9B62-586A349CC6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arrastukse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914400" y="1106640"/>
            <a:ext cx="6753240" cy="506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A0E6D-2DD2-4E28-BC97-D46FF1C8C4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Hankintajärjestelmän integrointi laskutusjärjestelmään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54064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ahoma"/>
              </a:rPr>
              <a:t>Hankintajärjestelmä tuottaa tilauksia toimittajalle, jolta lähtee sähköinen lasku tilaajan laskutusjärjestelmään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NormalProposedAccountIdentifier&gt;[kirjanpitotili]&lt;/NormalProposedAccountIdentifier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AccountDimensionText&gt;[kirjanpidon kustannuspaikka]&lt;/AccountDimensionText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invoicerow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RowShortProposedAccountIdentifier&gt;[tuoterivin ostoreskontran kustannuspaikka]&lt;/RowShortProposedAccountIdentifier&gt;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RowNormalProposedAccountIdentifier&gt;[tuoterivin kirjanpitotili]&lt;/RowNormalProposedAccountIdentifier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RowAccountDimensionText&gt;[kirjanpidon kustannuspaikka]&lt;/RowAccountDimensionText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ArticleName&gt;[tiliöintiselite]&lt;/ArticleName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RowVatRatePercent&gt;[verokanta]&lt;/RowVatRatePercent&gt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RowVatAmount&gt;[alv euroa]&lt;/RowVatAmount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RowVatExcludedAmount&gt;[veroton rivisumma]&lt;/RowVatExcludedAmount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RowAmount&gt;[rivisumma sisältäen alv:n]&lt;/RowAmount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/invoicerow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&lt;invoicerow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... seuraava laskuriv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&lt;/invoicerow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&lt;invoicerow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... seuraava laskuriv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/invoicerow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invoicerow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... seuraava laskuriv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/invoicerow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/Finvoice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&lt;Finvoice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... uusi lasku alkaa tästä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&lt;/Finvoice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05438-C3F5-489B-BA77-71B3BC1DE8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Hankintajärjestelmän integrointi laskutusjärjestelmään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54064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skutusjärjestelmä välittää hankintajärjestelmälle laskun rivit, joita verrataan saapumistarkastukse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issa kirjaston tilauksissa tullaan käyttämään Kosti- ostotilausjärjestelmää, joka niinikään on integroitu laskutusjärjestelmää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iissä tapauksissa, kun tilaus vastaa toimitusta, ei laskuja tarvitse hyväksyä lainkaan. Hyväksyminen toteutuu jo tilausvaltuuksi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2478A-05C1-4A6A-93EE-6D424560E4F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Helsingin kaupungin integrointiratkaisuja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"/>
          <p:cNvSpPr/>
          <p:nvPr/>
        </p:nvSpPr>
        <p:spPr>
          <a:xfrm>
            <a:off x="539640" y="907920"/>
            <a:ext cx="734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imittajilta on vaadittu kilpailutuksesta verkkokauppasovell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erkkokauppaan tehdystä tilauksesta saadaan vahvistus sähköposti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064720" cy="452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ECDD1-573F-43CE-B92B-F2873F2509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Helsingin kaupungin integrointiratkaisuj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204840" y="1081080"/>
            <a:ext cx="8543880" cy="515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A123F-E119-4332-9004-7D86FBC543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Helsingin kaupungin integrointiratkaisuj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Myös palute- ja laskujenkäsittelyjärjestelmä (Bib) on integroitu sähköposti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Jatkossa ostotilausjärjestelmä integroidaan laskujenkäsittelyyn siten, että valtuutettua tilausta vastaan saatua sähköistä laskua ei tarvitse enää erikseen hyväksyä (jos se eroaa vain vähän tilauksen summast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D8636-0C3A-4835-8E62-9068E53E54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Uusia liittymätapoj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ffff"/>
                </a:solidFill>
                <a:latin typeface="Tahoma"/>
              </a:rPr>
              <a:t>RSS</a:t>
            </a: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 on lyhenne sanoista Really Simple Syndication  (RSS 2.0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XML-pohjainen standardoitu välitystapa sisällön siirtämiselle palveluiden välillä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ebXML liiketoimintalähtöinen (business) mall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RSS mahdollistaa tiedon tilaamisen omalle päätelaitteelle (Internet-selain, sähköpostisovellus, matkapuhelin, Windows Vistan työpöytä jne.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RSS mahdollistaa myös sisällön liittämisen osaksi toista verkkopalvelu (Googlen ja Live.comin personoidut työpöydät, portaalit, intranetit jne.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B5802-2ADD-4F5C-B788-5E95BECAD2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ahoma"/>
              </a:rPr>
              <a:t>Kirjastot.fi:n RSS-feedi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300" spc="-1" strike="noStrike">
                <a:solidFill>
                  <a:srgbClr val="ffffff"/>
                </a:solidFill>
                <a:latin typeface="Tahoma"/>
              </a:rPr>
              <a:t>Ajankohtaista: http://www.kirjastot.fi/rss/tiedotteet.xml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300" spc="-1" strike="noStrike">
                <a:solidFill>
                  <a:srgbClr val="ffffff"/>
                </a:solidFill>
                <a:latin typeface="Tahoma"/>
              </a:rPr>
              <a:t>Ammattikalenteri: http://www.kirjastot.fi/rss/ammattikalenteri.xml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300" spc="-1" strike="noStrike">
                <a:solidFill>
                  <a:srgbClr val="ffffff"/>
                </a:solidFill>
                <a:latin typeface="Tahoma"/>
              </a:rPr>
              <a:t>Keskustelut ja blogit: http://www.kirjastot.fi/rss/keskustelut.xml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300" spc="-1" strike="noStrike">
                <a:solidFill>
                  <a:srgbClr val="ffffff"/>
                </a:solidFill>
                <a:latin typeface="Tahoma"/>
              </a:rPr>
              <a:t>Kirjastoalan lehtiseuranta: http://www.kirjastot.fi/rss/lehdet.xml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300" spc="-1" strike="noStrike">
                <a:solidFill>
                  <a:srgbClr val="ffffff"/>
                </a:solidFill>
                <a:latin typeface="Tahoma"/>
              </a:rPr>
              <a:t>Kysy kirjastonhoitajalta uusia vastauksia: http://www.kirjastot.fi/rss/kysy_kirjastonhoitajalta.xml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300" spc="-1" strike="noStrike">
                <a:solidFill>
                  <a:srgbClr val="ffffff"/>
                </a:solidFill>
                <a:latin typeface="Tahoma"/>
              </a:rPr>
              <a:t>Linkkikirjaston uusia linkkejä: http://www.kirjastot.fi/rss/linkit.xml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8968E-A248-4B1D-9054-47D557FB8F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ahoma"/>
              </a:rPr>
              <a:t>Esimerkki RSS-toteutuksest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220240" cy="506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547AC-E374-4307-A422-9172FD1C5AE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Uusia liittymätapoj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ffff"/>
                </a:solidFill>
                <a:latin typeface="Tahoma"/>
              </a:rPr>
              <a:t>Atom F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Atom Syndication on RSS Feedeille vaihtoehtoinen tapa sisällön siirtämiselle palveluiden välillä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Monipuolisempi kuin RS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Ei yhtä laajalti tuettu (useimmissa päätelaitteissa / sovelluksissa ei sisäänrakennettua tukea, vaatii kolmannen osapuolen laajennuksen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Useat palvelut mahdollistavat sekä RSS- että ATOM- määritysten mukaisten feedien tuottamisen / lukemise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F329A4-A0FA-4CC2-A6EA-A2054227F0C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Yhteenveto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675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Integraation tarpeet</a:t>
            </a:r>
            <a:br>
              <a:rPr sz="1400"/>
            </a:b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Verkottuminen, toimintaympäristön monimutkaistuminen sekä (liike)toiminnan ja teknologian kiihtyvä muutos korostavat integraation merkitystä. Integraatio tarkoittaa järjestelmien lisäksi myös käyttäjien ja liiketoimintaprosessien kytkemistä toisiinsa virastoissa, kunnissa, yrityksissä ja niiden välillä. </a:t>
            </a:r>
            <a:br>
              <a:rPr sz="1400"/>
            </a:br>
            <a:br>
              <a:rPr sz="1400"/>
            </a:b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Kytkentöjen jatkuvan muutosprosessin hallinta on yhä keskeisempi haaste, jota ei voi hoitaa yksittäisen järjestelmähankkeen osana; integraatio onkin yhä useammin keskeisin tietohallintotehtävä. Hallittu integraatio on johdettua ja tehokas toimintastrategioiden toteutusvälin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Tietojärjestelmäkehittämisessä on kolme osa-aluett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Prosessi(toiminta)muutokset, IT-arkkitehtuuri ja tietojärjestelmien kehity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Kestävällä arkkitehtuurilla kestäviä järjestelmiä</a:t>
            </a:r>
            <a:br>
              <a:rPr sz="1400"/>
            </a:br>
            <a:br>
              <a:rPr sz="1400"/>
            </a:b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IT-arkkitehtuuri jäsentää tietojärjestelmäkentän sektoreihin esimerkiksi toiminnallisin tai teknologisin perustein. Kestävää arkkitehtuuria hallitaan määrittelemällä sektoreittain parhaat ratkaisumallit teknologioiden elinkaarivaiheittain. Yksittäisen järjestelmän arkkitehtuuri johdetaan sektorin arkkitehtuurista ratkaisemaan järjestelmän ei-toiminnalliset vaatimukset.</a:t>
            </a:r>
            <a:br>
              <a:rPr sz="1400"/>
            </a:br>
            <a:br>
              <a:rPr sz="1400"/>
            </a:b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Integraatio tulee organisaatiossa ajankohtaiseksi tietojärjestelmiä hankittaessa ja ylläpidettäessä. Ohjelmistotyöstä 70 % lasketaan johtuvan integroinnista. ICT-järjestelmien ja toiminnan kehittäminen siis sulautuvat toisiinsa. Integrointityössä kohdattavat haasteet eivät ole siis pelkästään teknisiä, joten se on tietohallinnon, prosessien omistajien ja ohjelmistokehittäjien yhteinen asi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36D95-35E9-43D2-BC12-E50E2CDE8C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cc"/>
                </a:solidFill>
                <a:latin typeface="Tahoma"/>
              </a:rPr>
              <a:t>Kirjaston it-ympäristö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Helsingin kaupunginkirjastos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- 600 virkailijakonet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- 360 asiakaskonet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- 30 palvelinta (intra, web, Citrix PS,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It- henkilöst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- 6 it ammattilai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- 4 koulutettuan aluetukihenkilö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- 60 oto lähitukihenkilö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D29FD-6777-4FD7-BAC2-C37C88DA24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iitos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B045E1-EF7C-46FD-B544-EDDE4B2CF71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cc"/>
                </a:solidFill>
                <a:latin typeface="Tahoma"/>
              </a:rPr>
              <a:t>Kirjaston IT-ympäristö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1187280" y="1700280"/>
            <a:ext cx="3383280" cy="1441440"/>
          </a:xfrm>
          <a:prstGeom prst="ellipse">
            <a:avLst/>
          </a:prstGeom>
          <a:solidFill>
            <a:srgbClr val="ccffff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Tahoma"/>
              </a:rPr>
              <a:t>Kirjastot.f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219640" y="1844640"/>
            <a:ext cx="3600360" cy="2305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Tahoma"/>
              </a:rPr>
              <a:t>HelMet.f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0920" y="3645000"/>
            <a:ext cx="5329080" cy="25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Keskitetyt palvel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40 toimipistett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3 kirjastoaut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11 laitoskirjast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91A9E-7CCB-461C-B2D4-F02C37C788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ärjestelmät integroidaan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Eri siirtotavoi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Erilaisten liityntäpintojen kaut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Teknisesti integraatioratkaisut voidaan jakaa neljään luokkaa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SOA eli palvelupohjaiset ratkaisu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EDA eli tapahtumapohjaiset ratkaisut, EDI/OV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Point-to-point eli suorat järjestelmien väliset liitännä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DI eli tietokantaintegraat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Eri ratkaisuista voidaan valita kohdeympäristöön sopiva kokonaisuus, jonka avulla integraatio toteutetaa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F1298-101F-4B81-A92C-EDD0E5B0EB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Varhaisia ratkaisuja (1976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3564000" y="1125360"/>
            <a:ext cx="2462040" cy="20163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PDP-11/40 with dual DECtape drives."/>
          <p:cNvPicPr/>
          <p:nvPr/>
        </p:nvPicPr>
        <p:blipFill>
          <a:blip r:embed="rId2"/>
          <a:stretch/>
        </p:blipFill>
        <p:spPr>
          <a:xfrm>
            <a:off x="6372360" y="1052640"/>
            <a:ext cx="2417760" cy="32223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388200" y="457056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DP-11, 16 bittin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324000" y="1071720"/>
            <a:ext cx="2952720" cy="1903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3" name=""/>
          <p:cNvGraphicFramePr/>
          <p:nvPr/>
        </p:nvGraphicFramePr>
        <p:xfrm>
          <a:off x="755640" y="1413000"/>
          <a:ext cx="1968480" cy="26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1413000"/>
                    <a:ext cx="196848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5" name="" descr=""/>
          <p:cNvPicPr/>
          <p:nvPr/>
        </p:nvPicPr>
        <p:blipFill>
          <a:blip r:embed="rId6"/>
          <a:stretch/>
        </p:blipFill>
        <p:spPr>
          <a:xfrm>
            <a:off x="395280" y="3213000"/>
            <a:ext cx="5684760" cy="289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4BC35-D1F5-4FFE-8F64-5C4AF8347A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omponenttien elinkaar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ärjestelmäintegraatio lisää yksittäisten sovellusten käyttöikä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olehdittava myös rajapintojen elinkaare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052D7-D35C-40E9-86A2-FE321D0E49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Integraatiossa kolme mahdollisuutt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Tiedon välit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 operatiivisissa sovelluksissa tarvitaan mahdollisimman tosiaikaista tieto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 integraation onnistunut suunnittelu edellyttää tarkkaa prosessikuvaus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Käyttöoikeuksien j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 näissä on tietoturvauhk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 yhteinen järjestelmä kuten HelMet-kirjastojärjestelmä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Resurssien j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esimerkiksi kotitietokoneiden käyttö laskentatehtävissä (harvinaist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4127C-2A53-4FE7-AE46-A906E55C3AD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2:06:08Z</dcterms:created>
  <dc:creator>savoneno</dc:creator>
  <dc:description/>
  <dc:language>en-US</dc:language>
  <cp:lastModifiedBy>Kaupunginkirjasto</cp:lastModifiedBy>
  <dcterms:modified xsi:type="dcterms:W3CDTF">2007-03-10T08:25:04Z</dcterms:modified>
  <cp:revision>40</cp:revision>
  <dc:subject/>
  <dc:title>Järjestelmäintegraatio</dc:title>
</cp:coreProperties>
</file>