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AE96-8935-4C0B-B6E3-FECB85EF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B618-E8C0-4B64-AC9C-299FC2EB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695-E433-42D5-8416-223F48BB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6C5-9732-4056-9712-E0D974AD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C770-D6A9-4D9B-A9E7-15363ADC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C971-2E64-4A26-8A99-8454BF32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6FFE-B052-40D6-B3C2-9C140E65D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8989-4F35-4FC6-AC72-DF0335FC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67E5-5D0C-4198-9CCF-8DFBA275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1688D-B163-4875-86D6-A9108B83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EB4F-8761-415A-8ACC-BF6F80D9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56C-2845-4E86-A68F-500A389AE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D712-B8D3-4F05-9CD8-CD9C6CA4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FC13-5F48-4E7D-BE1C-B6CF261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1373-B1DA-4C12-8B9D-E2D5D4F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80119-8678-4497-B170-1B402218E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91A1-CFEE-4868-9549-9088B291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A82E-0DF8-4114-8CE0-A722CBD2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71E-5F09-4F8C-B7EC-7B7890FD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09E7-B4BF-432A-BB01-B9478A02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C69D-FFF1-4A6B-844E-34AFBDAC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56A-EE39-4FE8-8379-8D50ED91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8BC1-DE6B-42D0-9772-C7CDB22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E7F4-CC8B-45D1-8B4D-8FB01E5F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A9C9D-C95A-43CD-B609-BE8F9AF2774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3042D-5AD8-41B0-8BDA-5486D04428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0A6E-3E74-47FB-AB2F-8667F663FAD8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4E7A-A32C-4AF9-9891-70DC944937AB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hel.f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ärjestelmäintegraat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leisperiaatteita ja Helsingin kaupunginkirjaston toteutuk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179765-03C8-4376-88AA-649B8CE9F8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aettuja julkishallinnon tietokant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97000"/>
            <a:ext cx="144000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Henkil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V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2360" y="1628640"/>
            <a:ext cx="15112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hti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2400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357720"/>
            <a:ext cx="1368360" cy="7920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Rekisterö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joneu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0360" y="3068640"/>
            <a:ext cx="1800360" cy="1079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inteis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76720" y="2924280"/>
            <a:ext cx="1800360" cy="1441440"/>
          </a:xfrm>
          <a:prstGeom prst="rect">
            <a:avLst/>
          </a:prstGeom>
          <a:solidFill>
            <a:srgbClr val="9b9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Ton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M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1640" y="3068640"/>
            <a:ext cx="169236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kennuslu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900000" y="2205000"/>
            <a:ext cx="503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331640" y="2205000"/>
            <a:ext cx="208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47640" y="2205000"/>
            <a:ext cx="187200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48360" y="36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5084640"/>
            <a:ext cx="352908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Oso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-muutos päivittyy periaatte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utomaattisesti kaikki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64000" y="4292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27280" y="4437000"/>
            <a:ext cx="1081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03640" y="2565360"/>
            <a:ext cx="863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50920" y="249228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03040" y="13557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ösuhd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ä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0520" y="250812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5120" y="22924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, vuokra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F947BC-67EE-49A3-9E8D-BBEE3EF0FD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ADFS eli Active Directory Federation Service;  Microsoft-ympäristöss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Esimerkiksi Shibboleth Unix-maailmas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Yhteensovitus mahdollista ja sen avulla jopa kertakirjautumimen mahdolis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 on kansallinen tiedonhakuportaali, joka sisältää yliopisto- ja ammattikorkeakoulukirjastojen sekä yleisten kirjastojen hankkimia elektronisia aineistoja (mm. e-lehtiä, e-kirjoja ja viitetietokantoja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-portaalin kirjatumisjärjestelmänä on käytetty LDAPia (Lightweight Directory Access Protocol). Sen käyttö on mahdollista vain niissä yliopistoissa, joissa on LDAP-asiakashakemistorakenne. LDAPin huonona puolena on se, että kriittistä tietoa (salasana) kulkee portaalipalvelimella, vaikkakin salattuna. Shibboleth-tunnistustapa ratkaisee tämän ongelman. Shibboleth-järjestelmässä kirjautumista varten siirrytään kotiorganisaation kirjautumispalvelimelle, jossa käyttäjä tunnistetaan. Tämän jälkeen Nelli-portaalille lähetään tieto siitä, että käyttäjä on tunnistettu. Nellissä asiakas yksilöidään sähköpostiosoitteen alkuosan avull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urvallisen tunnistamisen lisäksi Shibboleth mahdollistaa kertakirjatumisen. Kertaalleen autentikoidun asiakkaan ei tarvitse kirjautua uudelleen siirtyessään palvelusta toiseen, sillä Shibboleth-tekniikalla voidaan välittää tiedot autentikoidusta henkilöstä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77FA64-5EA3-44E9-92B7-E0FFE9465D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br>
              <a:rPr sz="2800"/>
            </a:b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Helmet-konsortion ulkoistetun hankintajärjestelmän käyttö</a:t>
            </a:r>
            <a:br>
              <a:rPr sz="1800"/>
            </a:b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-AD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ADAE2C-8BF4-4B4F-AE5D-1AA99446EE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oteutuksia Helsingin kaupunginkirjast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Julkaisu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Intra – Internet (Web Servi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siakastyöasemien ajanvar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 – Asta (XLS)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irjautumi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llennium – Asko (SIP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Logistiik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met-kirjastojen hankinta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A5AFB7-5B12-4DCB-8E04-C0A929E5AE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Julkaisujärjestelmä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Intranet; Meteor julkaisujärjestelm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lib.hel.f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 ; -//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www.kirjastot.fi; -//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eteor pohjautuu täysin rakenteiseen ja määrämuotoiseen sisältöön, joten käytännössä mitä tahansa liittymämallia voidaan käyttä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simerkik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XML Web Serv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SS- ja ATOM- feed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Active Directory –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uorat tietokantayhteydet (samassa lähiverkon osas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iedon tuonti/vienti Microsoft Office-tuottei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CSV –tekstitiedost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Kertakirjautuminen eri palveluiden välill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äätälöidyt 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90F5C-1A3F-45F2-95A6-49F91A8660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CSV-tiedoston muodostaminenExcelillä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832360" cy="4953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941520" y="2147760"/>
            <a:ext cx="22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allenna nimell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mu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4F5019-D59E-40A6-BF50-3E2EA773AC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simerkiksi CSV-tiedoston muodostaminenExcelillä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53360" cy="46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72076C-AD91-486C-9EFD-F0A54E3203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ittymäarkkitehtuur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63640" y="1420920"/>
            <a:ext cx="611028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5A216A-9C97-40F2-8586-F2C5302858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Asko-asiakastietokone </a:t>
            </a:r>
            <a:r>
              <a:rPr b="0" lang="fi-FI" sz="1200" spc="-1" strike="noStrike">
                <a:solidFill>
                  <a:srgbClr val="ffffcc"/>
                </a:solidFill>
                <a:latin typeface="Tahoma"/>
              </a:rPr>
              <a:t>(www.lib.hel.fi/asko)</a:t>
            </a: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- komponentit            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1557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72360" y="19162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35640" y="6858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(https://varaus.lib.hel.f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12000" y="1197000"/>
            <a:ext cx="228600" cy="38088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7080" y="12682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948360" y="2565360"/>
            <a:ext cx="152640" cy="22860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68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0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76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8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nteg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464669-D742-4D40-BCB2-55A68A30F0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Kahden järjestelmän integraatiototeutu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ietokantapohjainen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               Asta ajanvar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411000" y="2090160"/>
            <a:ext cx="1674000" cy="1363680"/>
            <a:chOff x="3411000" y="2090160"/>
            <a:chExt cx="1674000" cy="1363680"/>
          </a:xfrm>
        </p:grpSpPr>
        <p:sp>
          <p:nvSpPr>
            <p:cNvPr id="498" name="_s32776"/>
            <p:cNvSpPr/>
            <p:nvPr/>
          </p:nvSpPr>
          <p:spPr>
            <a:xfrm>
              <a:off x="3719880" y="2090160"/>
              <a:ext cx="1056600" cy="939240"/>
            </a:xfrm>
            <a:custGeom>
              <a:avLst/>
              <a:gdLst>
                <a:gd name="textAreaLeft" fmla="*/ 0 w 1056600"/>
                <a:gd name="textAreaRight" fmla="*/ 1056960 w 105660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_s32777"/>
            <p:cNvSpPr/>
            <p:nvPr/>
          </p:nvSpPr>
          <p:spPr>
            <a:xfrm rot="7200000">
              <a:off x="3922560" y="225396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_s32779"/>
            <p:cNvSpPr/>
            <p:nvPr/>
          </p:nvSpPr>
          <p:spPr>
            <a:xfrm rot="14400000">
              <a:off x="3633480" y="225432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32774"/>
            <p:cNvSpPr/>
            <p:nvPr/>
          </p:nvSpPr>
          <p:spPr>
            <a:xfrm>
              <a:off x="4537440" y="226188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_s32775"/>
            <p:cNvSpPr/>
            <p:nvPr/>
          </p:nvSpPr>
          <p:spPr>
            <a:xfrm>
              <a:off x="4036680" y="30348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_s32778"/>
            <p:cNvSpPr/>
            <p:nvPr/>
          </p:nvSpPr>
          <p:spPr>
            <a:xfrm>
              <a:off x="3534480" y="22626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1722240" cy="14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1722600" cy="1511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86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kannaa asiakaskoneet (350)  kerran päivässä ja kirjoittaa tietokantatauluun tilant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täydentää esimerkiksi jonotuskone/varauskonetiedon, lisälaitteet kuten skanneri, käyttöa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6360" y="378936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ylläpitää tilatieto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(kunnossa tai e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järjestelmä kirjautuu ajastetusti kerran päivässä Assettiin ja noutaa päivitetyn tilanteen ja palauttaa laitteiden tilatie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oimintaa voidaan jatkaa ’vanhalla’ tilanteella, mikäli haku ei onni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4A97F-5B84-47E3-A4E4-ABF5378843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ekirjoittaneen tau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, tietotekniikkapäällikk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v. yksityisen palvelukse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kia 1973-197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etonauha 1980-1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komarkkinat 1987-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singin kaupunki 14 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ennusvirasto 3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punginkirjasto 11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74608-6D46-4E4D-A978-9686DC385D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fecte Asset- laitetiedo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76440" y="1752480"/>
            <a:ext cx="59911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5350A-910B-49EE-800A-8A23496B81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ta - virkailijavara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847960" y="1395360"/>
            <a:ext cx="344808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5B88E7-C96C-4AA0-9F35-89B297BDD8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autusautomaat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181720" cy="443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26DF0-2893-410E-9633-CF987D50CE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Palautettu aineisto jakautuu pääsäntöisesti kahteen: kyseiseen kirjastoon jäävään ja jatkokuljetista vaativaan (varatut ja muiden kirjastojen niteet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6580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087D8C-65D0-429D-8536-6236DFDC9C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838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jitte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00 nidettä per päiv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078520" cy="61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68BB7E-7329-4134-A6BC-9060CA5075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765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907920"/>
            <a:ext cx="5854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Ohjaustietoko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PC kytkettynä lajittelijaan, jossa erityisominaisuutena 2 kpl Com-portteja. Com1 lajittelijan logiikkayksikkö ja Com2 lajittelijan Sick laserlukija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409080" cy="43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730EB6-5FFB-4BD4-A142-8C47E1343F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70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254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kann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780000" y="17640"/>
            <a:ext cx="5130720" cy="68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FBDCC-9C73-455E-9FC3-F36571DDA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4783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3693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jittelu laatikoi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646740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B46D2-F16A-4742-AF7D-C28578F559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ekninen toteutus tietojen noutamiseen Millennium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iedot haetaan ohjaustyöasemassa käynnistettävällä SmartTerm 7-emulaattori- makrol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ittymä on merkkipohjainen Innopac ja makroon on nauhoitettu tarvittavat komenn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Ajo ajetaan normaalin Create List toiminnon avu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stauksesta muodostetaan tiedosto joka tuodaan kirjaston verkossa sijaitsevalle FTP-palvelimelle käyttäjän pyynnöll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Millenniumilta ei voi noutaa dataa vaan data tulee lähettää Millenniumin omalla FTP -clientilla ulospä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FED9B-C779-449B-A14C-69C331963C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artyIdentifier&gt;[Myyjäkortistossa oleva sellerpartyidentifier myyjän tunnistamiseen]&lt;/SellerParty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OrganisationName&gt;[Myyjän nimi]&lt;/SellerOrganisati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ContactPersonName&gt;[Myyjän lisänimi]&lt;/SellerContactPers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StreetName&gt;[Myyjän katuosoite]&lt;/SellerStreet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ostCodeIdentifier&gt;[Myyjän postiosoite]&lt;/SellerPostCode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TownName&gt;[Myyjän kaupunki]&lt;/SellerTow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honeNumberIdentifier&gt;[Myyjän puhelin]&lt;/SellerPhoneNumber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FaxNumber&gt;[Myyjän telefax]&lt;/SellerFaxNumb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EmailaddressIdentifier&gt;[Myyjän sähköposti]&lt;/SellerEmail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WebaddressIdentifier&gt;[Myyjän kotisivujen osoite]&lt;/SellerWeb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9ABFA-4BE2-4211-86AC-74AA2CFFC1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rrastuks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1106640"/>
            <a:ext cx="675324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2CE396-1580-4328-93B0-9B6D3E6A74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NormalProposedAccountIdentifier&gt;[kirjanpitotili]&lt;/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ccountDimensionText&gt;[kirjanpidon kustannuspaikka]&lt;/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ShortProposedAccountIdentifier&gt;[tuoterivin ostoreskontran kustannuspaikka]&lt;/RowShortProposedAccountIdentifier&gt;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NormalProposedAccountIdentifier&gt;[tuoterivin kirjanpitotili]&lt;/Row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ccountDimensionText&gt;[kirjanpidon kustannuspaikka]&lt;/Row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rticleName&gt;[tiliöintiselite]&lt;/ArticleNam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RatePercent&gt;[verokanta]&lt;/RowVatRatePercent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Amount&gt;[alv euroa]&lt;/RowVat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ExcludedAmount&gt;[veroton rivisumma]&lt;/RowVatExcluded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mount&gt;[rivisumma sisältäen alv:n]&lt;/Row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uusi lasku alkaa täst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B60420-01FE-4257-B9D5-1E32610C30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kutusjärjestelmä välittää hankintajärjestelmälle laskun rivit, joita verrataan saapumistarkastuks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issa kirjaston tilauksissa tullaan käyttämään Kosti- ostotilausjärjestelmää, joka niinikään on integroitu laskutusjärjestelmää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issä tapauksissa, kun tilaus vastaa toimitusta, ei laskuja tarvitse hyväksyä lainkaan. Hyväksyminen toteutuu jo tilausvaltuuksi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B1ECB3-45A2-4A41-A3EB-2289B9C87C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907920"/>
            <a:ext cx="73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imittajilta on vaadittu kilpailutuksesta verkkokauppasovel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kkokauppaan tehdystä tilauksesta saadaan vahvistus sähköposti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E59F0-A0C0-47D4-BF60-A30D86C2A2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04840" y="1081080"/>
            <a:ext cx="8543880" cy="51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66BB9-4CF8-4939-BB58-0F167D6514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Myös palute- ja laskujenkäsittelyjärjestelmä (Bib) on integroitu sähköposti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Jatkossa ostotilausjärjestelmä integroidaan laskujenkäsittelyyn siten, että valtuutettua tilausta vastaan saatua sähköistä laskua ei tarvitse enää erikseen hyväksyä (jos se eroaa vain vähän tilauksen summas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C1897A-9ED4-4EDB-AEA7-C730194967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ffff"/>
                </a:solidFill>
                <a:latin typeface="Tahoma"/>
              </a:rPr>
              <a:t>RSS</a:t>
            </a: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 on lyhenne sanoista Really Simple Syndication  (RSS 2.0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XML-pohjainen standardoitu välitys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bXML liiketoimintalähtöinen (business) mal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tiedon tilaamisen omalle päätelaitteelle (Internet-selain, sähköpostisovellus, matkapuhelin, Windows Vistan työpöytä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myös sisällön liittämisen osaksi toista verkkopalvelu (Googlen ja Live.comin personoidut työpöydät, portaalit, intranetit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986D9-FCD7-431E-A46C-791069528B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Kirjastot.fi:n RSS-feedi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jankohtaista: http://www.kirjastot.fi/rss/tiedotte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mmattikalenteri: http://www.kirjastot.fi/rss/ammattikalenteri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eskustelut ja blogit: http://www.kirjastot.fi/rss/keskustelu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irjastoalan lehtiseuranta: http://www.kirjastot.fi/rss/lehd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ysy kirjastonhoitajalta uusia vastauksia: http://www.kirjastot.fi/rss/kysy_kirjastonhoitajalta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Linkkikirjaston uusia linkkejä: http://www.kirjastot.fi/rss/linkit.xm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07550-92E5-405B-B730-A042F57D7A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Esimerkki RSS-toteutukses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2024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E7BA9-D979-433C-9EB4-5DD8E7E0E9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ffff"/>
                </a:solidFill>
                <a:latin typeface="Tahoma"/>
              </a:rPr>
              <a:t>Atom F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Atom Syndication on RSS Feedeille vaihtoehtoinen 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Monipuolisempi kuin R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i yhtä laajalti tuettu (useimmissa päätelaitteissa / sovelluksissa ei sisäänrakennettua tukea, vaatii kolmannen osapuolen laajennukse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Useat palvelut mahdollistavat sekä RSS- että ATOM- määritysten mukaisten feedien tuottamisen / lukem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EF7F5-9AEC-487A-A915-5DEECCDB70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hteenvet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675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Integraation tarpeet</a:t>
            </a: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Verkottuminen, toimintaympäristön monimutkaistuminen sekä (liike)toiminnan ja teknologian kiihtyvä muutos korostavat integraation merkitystä. Integraatio tarkoittaa järjestelmien lisäksi myös käyttäjien ja liiketoimintaprosessien kytkemistä toisiinsa virastoissa, kunnissa, yrityksissä ja niiden välillä. 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Kytkentöjen jatkuvan muutosprosessin hallinta on yhä keskeisempi haaste, jota ei voi hoitaa yksittäisen järjestelmähankkeen osana; integraatio onkin yhä useammin keskeisin tietohallintotehtävä. Hallittu integraatio on johdettua ja tehokas toimintastrategioiden toteutusväli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ietojärjestelmäkehittämisessä on kolme osa-aluet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Prosessi(toiminta)muutokset, IT-arkkitehtuuri ja tietojärjestelmien kehity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Kestävällä arkkitehtuurilla kestäviä järjestelmiä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T-arkkitehtuuri jäsentää tietojärjestelmäkentän sektoreihin esimerkiksi toiminnallisin tai teknologisin perustein. Kestävää arkkitehtuuria hallitaan määrittelemällä sektoreittain parhaat ratkaisumallit teknologioiden elinkaarivaiheittain. Yksittäisen järjestelmän arkkitehtuuri johdetaan sektorin arkkitehtuurista ratkaisemaan järjestelmän ei-toiminnalliset vaatimukset.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ntegraatio tulee organisaatiossa ajankohtaiseksi tietojärjestelmiä hankittaessa ja ylläpidettäessä. Ohjelmistotyöstä 70 % lasketaan johtuvan integroinnista. ICT-järjestelmien ja toiminnan kehittäminen siis sulautuvat toisiinsa. Integrointityössä kohdattavat haasteet eivät ole siis pelkästään teknisiä, joten se on tietohallinnon, prosessien omistajien ja ohjelmistokehittäjien yhteinen as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6459B-E42A-4B30-BA79-3CC67F0D1A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singin kaupunginkirjasto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0 virkailija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60 asiakas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0 palvelinta (intra, web, Citrix PS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It- henkilöst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 it ammattila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4 koulutettuan alue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 oto lähi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66261-89C0-424F-A7B2-665C6A673C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iito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B822E-1AE9-44BC-A309-DB785DD427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1700280"/>
            <a:ext cx="3383280" cy="1441440"/>
          </a:xfrm>
          <a:prstGeom prst="ellipse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Kirjasto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1844640"/>
            <a:ext cx="3600360" cy="23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HelMe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645000"/>
            <a:ext cx="5329080" cy="25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Keskitetyt palvel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40 toimipistett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3 kirjastoau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11 laitoskirjas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FA413-FDDB-413B-9541-D16B0D4EC7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ärjestelmät integroidaa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Eri siirtotavoi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Erilaisten liityntäpintojen kau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Teknisesti integraatioratkaisut voidaan jakaa neljään luokkaa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SOA eli palvelupohjaiset ratkaisu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DA eli tapahtumapohjaiset ratkaisut, EDI/OV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Point-to-point eli suorat järjestelmien väliset liitännät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DI eli tietokantaintegraati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ri ratkaisuista voidaan valita kohdeympäristöön sopiva kokonaisuus, jonka avulla integraatio toteutetaan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5F697-F427-40DA-B512-F8575DFA36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arhaisia ratkaisuja (1976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2462040" cy="2016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PDP-11/40 with dual DECtape drives."/>
          <p:cNvPicPr/>
          <p:nvPr/>
        </p:nvPicPr>
        <p:blipFill>
          <a:blip r:embed="rId2"/>
          <a:stretch/>
        </p:blipFill>
        <p:spPr>
          <a:xfrm>
            <a:off x="6372360" y="1052640"/>
            <a:ext cx="2417760" cy="3222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388200" y="45705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DP-11, 16 bitti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24000" y="1071720"/>
            <a:ext cx="2952720" cy="19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755640" y="1413000"/>
          <a:ext cx="1968480" cy="26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413000"/>
                    <a:ext cx="19684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95280" y="3213000"/>
            <a:ext cx="5684760" cy="28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C8286-3A80-467D-8A2E-B3D0929735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onenttien elinkaar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ärjestelmäintegraatio lisää yksittäisten sovellusten käyttöikä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olehdittava myös rajapintojen elinkaar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1BFCF-C690-4A3D-A7F5-0527E01EA3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graatiossa kolme mahdollisuutt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iedon välit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operatiivisissa sovelluksissa tarvitaan mahdollisimman tosiaikaista tiet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integraation onnistunut suunnittelu edellyttää tarkkaa prosessikuvau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äyttöoikeuk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näissä on tietoturvauhk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yhteinen järjestelmä kuten HelMet-kirjastojärjestelm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Resurs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esimerkiksi kotitietokoneiden käyttö laskentatehtävissä (harvinaist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562EA7-1EE8-4157-8E62-C64824B3CA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06:08Z</dcterms:created>
  <dc:creator>savoneno</dc:creator>
  <dc:description/>
  <dc:language>en-US</dc:language>
  <cp:lastModifiedBy>Kaupunginkirjasto</cp:lastModifiedBy>
  <dcterms:modified xsi:type="dcterms:W3CDTF">2007-03-10T08:25:04Z</dcterms:modified>
  <cp:revision>40</cp:revision>
  <dc:subject/>
  <dc:title>Järjestelmäintegraatio</dc:title>
</cp:coreProperties>
</file>